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9EC4-081A-48D8-B637-61B276693084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350CE6E-532A-4339-AECE-C25FB66A7731}" type="datetime12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5:26 AM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46EE-B0EA-4A8B-AB98-EDEE06721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179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3, 6 and 7 simultaneously because of dependen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choices made for 1,2,3,6,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experience with prototypes changes will be made. Iterativ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: Station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M: Track Recovery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M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: Fringe Rot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 from JIVE-PSNC meeting on 5 and 6 July 2006, Marcin Okon and Dominik Stokla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 creates a schedule file using a text editor. Schedule file describes the experi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HED generates a VEX forma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 notifies the CO of the new experi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FM is the central point of control and information for the CO. It acts as a shell around the central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 gets VEX file and processes it into another VEX format fil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VEX files are sent to telescopes and the CO notifies the TO’s of the new experi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he observations data is recorded by the Mk5 system or transferred directly to the g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 creates the CCF and Delay file. The CCF describes how and where data is correl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 is responsible for starting the correlation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lated data are saves in a central arch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 notifies the PI his experiment has been proces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a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een arrow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 arrow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 arrow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ite arrow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on communicating through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I will go into the cl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vial/obvious way of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ite processes all the bases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2 and 3: Data transported Mk4 data format or some other “packed” telescope data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line processing for one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ng more channels: successively on same cluster or parallel on different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ed data should be available on local 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rchitecture is being implemented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l CP? available, these files are concate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ch processing, job submission on grid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time processing for one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time slices divided into sub-time slices, each sub time slice is processed by an individual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1,2 and 3 have same pre-correlation and correlation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4 only writing to 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ng capacity should match the incoming data flows, add or remove cores according to de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memory buffer other cores and processes getting the live data for one channel and filling the memory 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D98B-9B5F-4CFF-8737-8308BE09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8001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763440"/>
            <a:ext cx="8001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180F-9275-4611-B4A0-29F3F387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29528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76344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76344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EE7B-2F20-490B-B8B2-D13BE16F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257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295280"/>
            <a:ext cx="257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295280"/>
            <a:ext cx="257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763440"/>
            <a:ext cx="257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763440"/>
            <a:ext cx="257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763440"/>
            <a:ext cx="257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F3D0-EE48-4919-AD74-11D3278F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230C-DBF2-4EB9-A982-07AB148A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5F22-09E2-421F-AD4B-8DDD0396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FEFF-904F-413C-9E25-8086204D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3904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295280"/>
            <a:ext cx="3904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835D-9A16-456A-8F73-A63AE676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C22B-5437-4E7B-97DF-9CB47474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8001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D9E6-012D-4CF7-A12F-4F732F24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295280"/>
            <a:ext cx="3904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76344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BF89-A8D2-4A30-8FB0-9FE11EF3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8DA0-1760-42FE-8A20-5C72515F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3904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29528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76344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E1D2-3468-445F-9B06-78C5F97D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29528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763440"/>
            <a:ext cx="8001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75DC-1F43-4522-929D-7A53073E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8001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763440"/>
            <a:ext cx="8001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E495-704B-4CDD-97D0-DDB2F265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29528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76344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76344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4741-A69F-43EE-8248-B19F7833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257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295280"/>
            <a:ext cx="257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295280"/>
            <a:ext cx="257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763440"/>
            <a:ext cx="257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763440"/>
            <a:ext cx="257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763440"/>
            <a:ext cx="257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F3B5-98A5-4E59-9764-BC2A21AA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A533-A353-40FA-A8BE-B3991839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3904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295280"/>
            <a:ext cx="3904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CB95-34D3-4234-ADDC-7B7BFDCF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2F4-6FF4-4C65-9027-A3F508FC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8001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21D-EB61-47C0-A3F8-BCEFAC8D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295280"/>
            <a:ext cx="3904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76344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8975-F511-47E0-B5B6-4EE9DA12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3904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29528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76344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F869-51F6-48E8-9D94-0E8C893B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29528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763440"/>
            <a:ext cx="8001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DF4-9256-40F3-8093-5B741A2B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3356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285640" y="6244920"/>
            <a:ext cx="114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1280" y="6244920"/>
            <a:ext cx="373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67480" y="6244920"/>
            <a:ext cx="106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7D0E-30F5-4B80-BC2C-8E6F581576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587520" y="6234120"/>
            <a:ext cx="162216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25142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62012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ACCA-67B9-45D4-ADD1-7CD2BA60C1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85800" y="6234120"/>
            <a:ext cx="1622520" cy="48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PReS FABRIC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P 2.2 Correlator Engin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eting 25-09-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znan Pol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IVE, Ruud Oerlem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XPReS FABRIC meeting at Poznan, Po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5423-4E4B-4B6E-B5C8-4443B37AB08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5-09-200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winburne University, Adam Del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t summer exchange of expertise on their software correl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EXPReS employee: Yurii Pidopryhora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tronomy backgr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analysis and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SCARIe employee: Nico Kruitho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cience backgr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ri, NWO funded project aimed at sw correlator on Dutch Gr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FABRIC meeting at Poznan, Po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5A70-97A8-4860-9C09-3D54C323254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-09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P 2.2.? Stat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44600" y="1725120"/>
            <a:ext cx="850104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0">
              <a:spcBef>
                <a:spcPts val="601"/>
              </a:spcBef>
              <a:buNone/>
              <a:tabLst>
                <a:tab algn="l" pos="0"/>
                <a:tab algn="l" pos="5288040"/>
                <a:tab algn="l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ork Packag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1080" indent="-3610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5288040"/>
                <a:tab algn="l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lator algorithm desig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most finish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1080" indent="-3610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5288040"/>
                <a:tab algn="l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lator computational co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1080" indent="-3610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5288040"/>
                <a:tab algn="l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led up version for cluste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1080" indent="-3610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5288040"/>
                <a:tab algn="l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ributed vers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1080" indent="-3610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5288040"/>
                <a:tab algn="l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active visualiz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1080" indent="-3610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5288040"/>
                <a:tab algn="l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put defini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g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1080" indent="-3610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5288040"/>
                <a:tab algn="l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put mer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g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FABRIC meeting at Poznan, Po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D9C4-9F84-4321-91EE-49C68C14FBA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-09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P2.2 Correlator Eng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elop a Correlator Engine that can run on standard workstations, deployable on clusters and grid no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538200"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rrelator algorithm design (m5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538200"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rrelator computational core, single node (m14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538200"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caled up version for clusters (m23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538200"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tributed version, middle ware (m33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538200"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active visualization (m4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538200"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 definition (m15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538200"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 merge (m24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FABRIC meeting at Poznan, Po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3986-D5DF-499A-8A79-256F2EEBD03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-09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rrent broadband Software Correl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06800" y="1066680"/>
            <a:ext cx="8279640" cy="5043240"/>
            <a:chOff x="406800" y="1066680"/>
            <a:chExt cx="8279640" cy="5043240"/>
          </a:xfrm>
        </p:grpSpPr>
        <p:sp>
          <p:nvSpPr>
            <p:cNvPr id="100" name=""/>
            <p:cNvSpPr/>
            <p:nvPr/>
          </p:nvSpPr>
          <p:spPr>
            <a:xfrm>
              <a:off x="2832480" y="1066680"/>
              <a:ext cx="88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ion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23440" y="1066680"/>
              <a:ext cx="88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ion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00840" y="1066680"/>
              <a:ext cx="91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ion 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17520" y="2853000"/>
              <a:ext cx="519120" cy="21600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73880" y="2306160"/>
              <a:ext cx="182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w data 16 MHz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k4 format on linux dis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47920" y="2829960"/>
              <a:ext cx="145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annel extra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80440" y="3249000"/>
              <a:ext cx="593280" cy="28764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33400" y="3224880"/>
              <a:ext cx="116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racted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41160" y="3969360"/>
              <a:ext cx="136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lay corre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17520" y="3959280"/>
              <a:ext cx="519120" cy="21600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80440" y="4374720"/>
              <a:ext cx="593280" cy="28800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"/>
            <p:cNvCxnSpPr>
              <a:stCxn id="112" idx="3"/>
              <a:endCxn id="103" idx="0"/>
            </p:cNvCxnSpPr>
            <p:nvPr/>
          </p:nvCxnSpPr>
          <p:spPr>
            <a:xfrm flipV="1" rot="10800000">
              <a:off x="3276720" y="2680920"/>
              <a:ext cx="1080" cy="171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3" name=""/>
            <p:cNvCxnSpPr>
              <a:stCxn id="103" idx="2"/>
              <a:endCxn id="106" idx="1"/>
            </p:cNvCxnSpPr>
            <p:nvPr/>
          </p:nvCxnSpPr>
          <p:spPr>
            <a:xfrm flipV="1" rot="10800000">
              <a:off x="3276720" y="3068640"/>
              <a:ext cx="1080" cy="1807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2980440" y="2393280"/>
              <a:ext cx="593280" cy="28800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52520" y="4400280"/>
              <a:ext cx="159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lay corrected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"/>
            <p:cNvCxnSpPr>
              <a:stCxn id="106" idx="3"/>
              <a:endCxn id="109" idx="0"/>
            </p:cNvCxnSpPr>
            <p:nvPr/>
          </p:nvCxnSpPr>
          <p:spPr>
            <a:xfrm flipV="1" rot="10800000">
              <a:off x="3276720" y="3536640"/>
              <a:ext cx="1080" cy="422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>
              <a:stCxn id="109" idx="2"/>
              <a:endCxn id="110" idx="1"/>
            </p:cNvCxnSpPr>
            <p:nvPr/>
          </p:nvCxnSpPr>
          <p:spPr>
            <a:xfrm flipV="1" rot="10800000">
              <a:off x="3276720" y="4174920"/>
              <a:ext cx="1080" cy="2001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4332960" y="2853000"/>
              <a:ext cx="519480" cy="21600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96240" y="3249000"/>
              <a:ext cx="593280" cy="28764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32960" y="3959280"/>
              <a:ext cx="519480" cy="21600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6240" y="4374720"/>
              <a:ext cx="593280" cy="28800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22" idx="3"/>
              <a:endCxn id="117" idx="0"/>
            </p:cNvCxnSpPr>
            <p:nvPr/>
          </p:nvCxnSpPr>
          <p:spPr>
            <a:xfrm flipV="1" rot="10800000">
              <a:off x="4592160" y="2680920"/>
              <a:ext cx="1080" cy="171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"/>
            <p:cNvCxnSpPr>
              <a:stCxn id="117" idx="2"/>
              <a:endCxn id="118" idx="1"/>
            </p:cNvCxnSpPr>
            <p:nvPr/>
          </p:nvCxnSpPr>
          <p:spPr>
            <a:xfrm flipV="1" rot="10800000">
              <a:off x="4592160" y="3068640"/>
              <a:ext cx="1080" cy="1807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2" name=""/>
            <p:cNvSpPr/>
            <p:nvPr/>
          </p:nvSpPr>
          <p:spPr>
            <a:xfrm>
              <a:off x="4296240" y="2393280"/>
              <a:ext cx="593280" cy="28800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"/>
            <p:cNvCxnSpPr>
              <a:stCxn id="118" idx="3"/>
              <a:endCxn id="119" idx="0"/>
            </p:cNvCxnSpPr>
            <p:nvPr/>
          </p:nvCxnSpPr>
          <p:spPr>
            <a:xfrm flipV="1" rot="10800000">
              <a:off x="4592160" y="3536640"/>
              <a:ext cx="1080" cy="422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"/>
            <p:cNvCxnSpPr>
              <a:stCxn id="119" idx="2"/>
              <a:endCxn id="120" idx="1"/>
            </p:cNvCxnSpPr>
            <p:nvPr/>
          </p:nvCxnSpPr>
          <p:spPr>
            <a:xfrm flipV="1" rot="10800000">
              <a:off x="4592160" y="4174920"/>
              <a:ext cx="1080" cy="2001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6" name=""/>
            <p:cNvSpPr/>
            <p:nvPr/>
          </p:nvSpPr>
          <p:spPr>
            <a:xfrm>
              <a:off x="6233040" y="2853000"/>
              <a:ext cx="519480" cy="21600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95960" y="3249000"/>
              <a:ext cx="593280" cy="28764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33040" y="3959280"/>
              <a:ext cx="519480" cy="21600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95960" y="4374720"/>
              <a:ext cx="593280" cy="28800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" name=""/>
            <p:cNvCxnSpPr>
              <a:stCxn id="131" idx="3"/>
              <a:endCxn id="126" idx="0"/>
            </p:cNvCxnSpPr>
            <p:nvPr/>
          </p:nvCxnSpPr>
          <p:spPr>
            <a:xfrm flipV="1" rot="10800000">
              <a:off x="6492240" y="2680920"/>
              <a:ext cx="1080" cy="171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6" idx="2"/>
              <a:endCxn id="127" idx="1"/>
            </p:cNvCxnSpPr>
            <p:nvPr/>
          </p:nvCxnSpPr>
          <p:spPr>
            <a:xfrm flipV="1" rot="10800000">
              <a:off x="6492240" y="3068640"/>
              <a:ext cx="1080" cy="1807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1" name=""/>
            <p:cNvSpPr/>
            <p:nvPr/>
          </p:nvSpPr>
          <p:spPr>
            <a:xfrm>
              <a:off x="6195960" y="2393280"/>
              <a:ext cx="593280" cy="28800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" name=""/>
            <p:cNvCxnSpPr>
              <a:stCxn id="127" idx="3"/>
              <a:endCxn id="128" idx="0"/>
            </p:cNvCxnSpPr>
            <p:nvPr/>
          </p:nvCxnSpPr>
          <p:spPr>
            <a:xfrm flipV="1" rot="10800000">
              <a:off x="6492240" y="3536640"/>
              <a:ext cx="1080" cy="422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8" idx="2"/>
              <a:endCxn id="129" idx="1"/>
            </p:cNvCxnSpPr>
            <p:nvPr/>
          </p:nvCxnSpPr>
          <p:spPr>
            <a:xfrm flipV="1" rot="10800000">
              <a:off x="6492240" y="4174920"/>
              <a:ext cx="1080" cy="2001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5" name=""/>
            <p:cNvSpPr/>
            <p:nvPr/>
          </p:nvSpPr>
          <p:spPr>
            <a:xfrm>
              <a:off x="4799880" y="5263560"/>
              <a:ext cx="371160" cy="360000"/>
            </a:xfrm>
            <a:prstGeom prst="flowChartSummingJunction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"/>
            <p:cNvCxnSpPr>
              <a:stCxn id="110" idx="3"/>
              <a:endCxn id="135" idx="0"/>
            </p:cNvCxnSpPr>
            <p:nvPr/>
          </p:nvCxnSpPr>
          <p:spPr>
            <a:xfrm flipH="1" rot="16200000">
              <a:off x="3831120" y="4108680"/>
              <a:ext cx="600840" cy="1708560"/>
            </a:xfrm>
            <a:prstGeom prst="curvedConnector5">
              <a:avLst>
                <a:gd name="adj1" fmla="val 50000"/>
                <a:gd name="adj2" fmla="val 49989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0" idx="3"/>
              <a:endCxn id="135" idx="0"/>
            </p:cNvCxnSpPr>
            <p:nvPr/>
          </p:nvCxnSpPr>
          <p:spPr>
            <a:xfrm flipH="1" rot="16200000">
              <a:off x="4488840" y="4766400"/>
              <a:ext cx="600840" cy="393120"/>
            </a:xfrm>
            <a:prstGeom prst="curvedConnector5">
              <a:avLst>
                <a:gd name="adj1" fmla="val 50000"/>
                <a:gd name="adj2" fmla="val 49954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29" idx="3"/>
              <a:endCxn id="135" idx="0"/>
            </p:cNvCxnSpPr>
            <p:nvPr/>
          </p:nvCxnSpPr>
          <p:spPr>
            <a:xfrm rot="5400000">
              <a:off x="5438160" y="4209120"/>
              <a:ext cx="600840" cy="15080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2929320" y="5306760"/>
              <a:ext cx="160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rrelation. SFX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84520" y="5677920"/>
              <a:ext cx="1915560" cy="43200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 Produ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08840" y="3651480"/>
              <a:ext cx="434160" cy="15876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87640" y="3661560"/>
              <a:ext cx="434520" cy="13500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46760" y="3661560"/>
              <a:ext cx="458640" cy="13500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"/>
            <p:cNvCxnSpPr>
              <a:stCxn id="141" idx="3"/>
              <a:endCxn id="109" idx="0"/>
            </p:cNvCxnSpPr>
            <p:nvPr/>
          </p:nvCxnSpPr>
          <p:spPr>
            <a:xfrm flipH="1" rot="16200000">
              <a:off x="2927880" y="3608640"/>
              <a:ext cx="149040" cy="550800"/>
            </a:xfrm>
            <a:prstGeom prst="curvedConnector5">
              <a:avLst>
                <a:gd name="adj1" fmla="val 49394"/>
                <a:gd name="adj2" fmla="val 49967"/>
                <a:gd name="adj3" fmla="val 4939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" name=""/>
            <p:cNvCxnSpPr>
              <a:stCxn id="142" idx="3"/>
              <a:endCxn id="119" idx="0"/>
            </p:cNvCxnSpPr>
            <p:nvPr/>
          </p:nvCxnSpPr>
          <p:spPr>
            <a:xfrm flipH="1" rot="16200000">
              <a:off x="4268160" y="3634200"/>
              <a:ext cx="162720" cy="487080"/>
            </a:xfrm>
            <a:prstGeom prst="curvedConnector5">
              <a:avLst>
                <a:gd name="adj1" fmla="val 49889"/>
                <a:gd name="adj2" fmla="val 50000"/>
                <a:gd name="adj3" fmla="val 4988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6" name=""/>
            <p:cNvCxnSpPr>
              <a:stCxn id="143" idx="3"/>
              <a:endCxn id="128" idx="0"/>
            </p:cNvCxnSpPr>
            <p:nvPr/>
          </p:nvCxnSpPr>
          <p:spPr>
            <a:xfrm flipH="1" rot="16200000">
              <a:off x="6203160" y="3669480"/>
              <a:ext cx="162720" cy="416520"/>
            </a:xfrm>
            <a:prstGeom prst="curvedConnector5">
              <a:avLst>
                <a:gd name="adj1" fmla="val 49889"/>
                <a:gd name="adj2" fmla="val 50000"/>
                <a:gd name="adj3" fmla="val 4988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" name=""/>
            <p:cNvSpPr/>
            <p:nvPr/>
          </p:nvSpPr>
          <p:spPr>
            <a:xfrm>
              <a:off x="406800" y="3616560"/>
              <a:ext cx="204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-calculated,Delay tab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79000" y="1495800"/>
              <a:ext cx="593280" cy="28800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17520" y="1962720"/>
              <a:ext cx="519120" cy="21600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97680" y="1494360"/>
              <a:ext cx="593280" cy="28764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34760" y="1960920"/>
              <a:ext cx="519480" cy="21600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94520" y="1527480"/>
              <a:ext cx="593280" cy="28764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33040" y="1994040"/>
              <a:ext cx="519480" cy="21600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" name=""/>
            <p:cNvCxnSpPr>
              <a:stCxn id="148" idx="3"/>
              <a:endCxn id="149" idx="0"/>
            </p:cNvCxnSpPr>
            <p:nvPr/>
          </p:nvCxnSpPr>
          <p:spPr>
            <a:xfrm flipH="1" rot="16200000">
              <a:off x="3187080" y="1872360"/>
              <a:ext cx="179280" cy="2160"/>
            </a:xfrm>
            <a:prstGeom prst="curvedConnector5">
              <a:avLst>
                <a:gd name="adj1" fmla="val 49496"/>
                <a:gd name="adj2" fmla="val 40000"/>
                <a:gd name="adj3" fmla="val 4949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49" idx="2"/>
              <a:endCxn id="112" idx="1"/>
            </p:cNvCxnSpPr>
            <p:nvPr/>
          </p:nvCxnSpPr>
          <p:spPr>
            <a:xfrm flipV="1" rot="10800000">
              <a:off x="3276720" y="2178720"/>
              <a:ext cx="1080" cy="214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0" idx="3"/>
              <a:endCxn id="151" idx="0"/>
            </p:cNvCxnSpPr>
            <p:nvPr/>
          </p:nvCxnSpPr>
          <p:spPr>
            <a:xfrm flipV="1" rot="10800000">
              <a:off x="4593960" y="1782000"/>
              <a:ext cx="1080" cy="1792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51" idx="2"/>
              <a:endCxn id="122" idx="1"/>
            </p:cNvCxnSpPr>
            <p:nvPr/>
          </p:nvCxnSpPr>
          <p:spPr>
            <a:xfrm rot="5400000">
              <a:off x="4484880" y="2284560"/>
              <a:ext cx="216720" cy="2160"/>
            </a:xfrm>
            <a:prstGeom prst="curvedConnector5">
              <a:avLst>
                <a:gd name="adj1" fmla="val 49916"/>
                <a:gd name="adj2" fmla="val 40000"/>
                <a:gd name="adj3" fmla="val 4991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52" idx="3"/>
              <a:endCxn id="153" idx="0"/>
            </p:cNvCxnSpPr>
            <p:nvPr/>
          </p:nvCxnSpPr>
          <p:spPr>
            <a:xfrm flipH="1" rot="16200000">
              <a:off x="6402600" y="1903680"/>
              <a:ext cx="179280" cy="2160"/>
            </a:xfrm>
            <a:prstGeom prst="curvedConnector5">
              <a:avLst>
                <a:gd name="adj1" fmla="val 49496"/>
                <a:gd name="adj2" fmla="val 40000"/>
                <a:gd name="adj3" fmla="val 4949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3" idx="2"/>
              <a:endCxn id="131" idx="1"/>
            </p:cNvCxnSpPr>
            <p:nvPr/>
          </p:nvCxnSpPr>
          <p:spPr>
            <a:xfrm flipV="1" rot="10800000">
              <a:off x="6492240" y="2210040"/>
              <a:ext cx="1080" cy="1836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0" name=""/>
            <p:cNvSpPr/>
            <p:nvPr/>
          </p:nvSpPr>
          <p:spPr>
            <a:xfrm>
              <a:off x="1124640" y="1923480"/>
              <a:ext cx="170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m Mk5 to linux dis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6080" y="1437120"/>
              <a:ext cx="1845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w data BW=16 MHz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k4 format on Mk5 disk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54200" y="2692080"/>
              <a:ext cx="899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M,TRM,C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54200" y="3854160"/>
              <a:ext cx="982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CM,DMM,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85800" y="2692080"/>
              <a:ext cx="355320" cy="1350720"/>
            </a:xfrm>
            <a:custGeom>
              <a:avLst/>
              <a:gdLst>
                <a:gd name="textAreaLeft" fmla="*/ 0 w 355320"/>
                <a:gd name="textAreaRight" fmla="*/ 128160 w 355320"/>
                <a:gd name="textAreaTop" fmla="*/ 34920 h 1350720"/>
                <a:gd name="textAreaBottom" fmla="*/ 1315800 h 135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144"/>
                  </a:lnTo>
                  <a:cubicBezTo>
                    <a:pt x="10800" y="10044"/>
                    <a:pt x="16200" y="10944"/>
                    <a:pt x="21600" y="10944"/>
                  </a:cubicBezTo>
                  <a:cubicBezTo>
                    <a:pt x="16200" y="10944"/>
                    <a:pt x="10800" y="11844"/>
                    <a:pt x="10800" y="12744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48960" y="3250440"/>
              <a:ext cx="44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47840" y="4583520"/>
              <a:ext cx="88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re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7" name=""/>
            <p:cNvCxnSpPr>
              <a:stCxn id="135" idx="4"/>
              <a:endCxn id="140" idx="1"/>
            </p:cNvCxnSpPr>
            <p:nvPr/>
          </p:nvCxnSpPr>
          <p:spPr>
            <a:xfrm flipH="1" rot="16200000">
              <a:off x="5049720" y="5558760"/>
              <a:ext cx="270720" cy="3996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8" name=""/>
            <p:cNvSpPr/>
            <p:nvPr/>
          </p:nvSpPr>
          <p:spPr>
            <a:xfrm>
              <a:off x="7341840" y="4088160"/>
              <a:ext cx="324360" cy="1503720"/>
            </a:xfrm>
            <a:custGeom>
              <a:avLst/>
              <a:gdLst>
                <a:gd name="textAreaLeft" fmla="*/ 0 w 324360"/>
                <a:gd name="textAreaRight" fmla="*/ 117000 w 324360"/>
                <a:gd name="textAreaTop" fmla="*/ 38880 h 1503720"/>
                <a:gd name="textAreaBottom" fmla="*/ 1464840 h 150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26120" y="1081440"/>
              <a:ext cx="1660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N Mk4 equival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FABRIC meeting at Poznan, Po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22EA-002F-4748-AB11-D6FF32F1C35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-09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 level design Distributed Corre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2133720"/>
            <a:ext cx="2133360" cy="153972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48000" y="2743200"/>
            <a:ext cx="62892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rocess V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99040" y="2438280"/>
            <a:ext cx="466560" cy="2271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AL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81480" y="3276720"/>
            <a:ext cx="533520" cy="30456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De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276720"/>
            <a:ext cx="439560" cy="30456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C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73" idx="2"/>
            <a:endCxn id="174" idx="1"/>
          </p:cNvCxnSpPr>
          <p:nvPr/>
        </p:nvCxnSpPr>
        <p:spPr>
          <a:xfrm flipH="1" rot="16200000">
            <a:off x="5084640" y="2912760"/>
            <a:ext cx="612000" cy="116640"/>
          </a:xfrm>
          <a:prstGeom prst="curvedConnector5">
            <a:avLst>
              <a:gd name="adj1" fmla="val 49852"/>
              <a:gd name="adj2" fmla="val 49845"/>
              <a:gd name="adj3" fmla="val 498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3886200" y="3276720"/>
            <a:ext cx="457200" cy="295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V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2" idx="2"/>
            <a:endCxn id="177" idx="1"/>
          </p:cNvCxnSpPr>
          <p:nvPr/>
        </p:nvCxnSpPr>
        <p:spPr>
          <a:xfrm rot="5400000">
            <a:off x="4228560" y="2943000"/>
            <a:ext cx="219960" cy="448560"/>
          </a:xfrm>
          <a:prstGeom prst="curvedConnector5">
            <a:avLst>
              <a:gd name="adj1" fmla="val 50000"/>
              <a:gd name="adj2" fmla="val 49959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2" idx="2"/>
            <a:endCxn id="175" idx="1"/>
          </p:cNvCxnSpPr>
          <p:nvPr/>
        </p:nvCxnSpPr>
        <p:spPr>
          <a:xfrm flipH="1" rot="16200000">
            <a:off x="4566960" y="3051720"/>
            <a:ext cx="219960" cy="2307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3809880" y="2209680"/>
            <a:ext cx="6858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WF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1349280"/>
            <a:ext cx="2438640" cy="55584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1523880"/>
            <a:ext cx="561960" cy="1908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CH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49520" y="1447920"/>
            <a:ext cx="666720" cy="3474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1447920"/>
            <a:ext cx="457200" cy="34128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V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3" idx="4"/>
            <a:endCxn id="182" idx="1"/>
          </p:cNvCxnSpPr>
          <p:nvPr/>
        </p:nvCxnSpPr>
        <p:spPr>
          <a:xfrm flipV="1">
            <a:off x="4115880" y="1618560"/>
            <a:ext cx="227880" cy="3960"/>
          </a:xfrm>
          <a:prstGeom prst="curvedConnector5">
            <a:avLst>
              <a:gd name="adj1" fmla="val 49525"/>
              <a:gd name="adj2" fmla="val 50000"/>
              <a:gd name="adj3" fmla="val 495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2" idx="3"/>
            <a:endCxn id="184" idx="2"/>
          </p:cNvCxnSpPr>
          <p:nvPr/>
        </p:nvCxnSpPr>
        <p:spPr>
          <a:xfrm>
            <a:off x="4905360" y="1618920"/>
            <a:ext cx="200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4" idx="3"/>
            <a:endCxn id="173" idx="0"/>
          </p:cNvCxnSpPr>
          <p:nvPr/>
        </p:nvCxnSpPr>
        <p:spPr>
          <a:xfrm rot="5400000">
            <a:off x="5007960" y="2112480"/>
            <a:ext cx="649800" cy="2520"/>
          </a:xfrm>
          <a:prstGeom prst="curvedConnector5">
            <a:avLst>
              <a:gd name="adj1" fmla="val 49833"/>
              <a:gd name="adj2" fmla="val 50000"/>
              <a:gd name="adj3" fmla="val 49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4" idx="3"/>
            <a:endCxn id="172" idx="0"/>
          </p:cNvCxnSpPr>
          <p:nvPr/>
        </p:nvCxnSpPr>
        <p:spPr>
          <a:xfrm rot="5400000">
            <a:off x="4470480" y="1880280"/>
            <a:ext cx="954720" cy="772200"/>
          </a:xfrm>
          <a:prstGeom prst="curvedConnector5">
            <a:avLst>
              <a:gd name="adj1" fmla="val 49905"/>
              <a:gd name="adj2" fmla="val 50000"/>
              <a:gd name="adj3" fmla="val 499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Cloud"/>
          <p:cNvSpPr/>
          <p:nvPr/>
        </p:nvSpPr>
        <p:spPr>
          <a:xfrm>
            <a:off x="4356000" y="4238640"/>
            <a:ext cx="2335320" cy="15652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48320" y="4467240"/>
            <a:ext cx="76212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Gri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10240" y="4772160"/>
            <a:ext cx="76176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Gri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19720" y="5229360"/>
            <a:ext cx="76212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Gri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76880" y="1523880"/>
            <a:ext cx="1356840" cy="2063880"/>
            <a:chOff x="776880" y="1523880"/>
            <a:chExt cx="1356840" cy="2063880"/>
          </a:xfrm>
        </p:grpSpPr>
        <p:sp>
          <p:nvSpPr>
            <p:cNvPr id="194" name=""/>
            <p:cNvSpPr/>
            <p:nvPr/>
          </p:nvSpPr>
          <p:spPr>
            <a:xfrm>
              <a:off x="1138320" y="2503440"/>
              <a:ext cx="995400" cy="1084320"/>
            </a:xfrm>
            <a:prstGeom prst="flowChart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888840" y="1563120"/>
              <a:ext cx="651960" cy="687600"/>
              <a:chOff x="888840" y="1563120"/>
              <a:chExt cx="651960" cy="687600"/>
            </a:xfrm>
          </p:grpSpPr>
          <p:sp>
            <p:nvSpPr>
              <p:cNvPr id="196" name=""/>
              <p:cNvSpPr/>
              <p:nvPr/>
            </p:nvSpPr>
            <p:spPr>
              <a:xfrm rot="13175400">
                <a:off x="968760" y="1670760"/>
                <a:ext cx="491760" cy="42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63" y="5924"/>
                    </a:moveTo>
                    <a:arcTo wR="10800" hR="10800" stAng="-9189620" swAng="8125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63" y="5924"/>
                    </a:moveTo>
                    <a:arcTo wR="10800" hR="10800" stAng="-9189620" swAng="812552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010880" y="2046240"/>
                <a:ext cx="123120" cy="204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1355760" y="2625840"/>
              <a:ext cx="58572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Field Syst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68360" y="3135240"/>
              <a:ext cx="5857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Mark5 Syst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" name=""/>
            <p:cNvCxnSpPr>
              <a:stCxn id="198" idx="0"/>
              <a:endCxn id="197" idx="3"/>
            </p:cNvCxnSpPr>
            <p:nvPr/>
          </p:nvCxnSpPr>
          <p:spPr>
            <a:xfrm flipV="1" rot="16200000">
              <a:off x="1172520" y="2150280"/>
              <a:ext cx="375480" cy="575280"/>
            </a:xfrm>
            <a:prstGeom prst="curvedConnector5">
              <a:avLst>
                <a:gd name="adj1" fmla="val 49904"/>
                <a:gd name="adj2" fmla="val 49968"/>
                <a:gd name="adj3" fmla="val 4990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1" name=""/>
            <p:cNvCxnSpPr>
              <a:stCxn id="197" idx="1"/>
              <a:endCxn id="199" idx="1"/>
            </p:cNvCxnSpPr>
            <p:nvPr/>
          </p:nvCxnSpPr>
          <p:spPr>
            <a:xfrm flipH="1" flipV="1" rot="10800000">
              <a:off x="1041120" y="2149200"/>
              <a:ext cx="327600" cy="1154880"/>
            </a:xfrm>
            <a:prstGeom prst="curvedConnector5">
              <a:avLst>
                <a:gd name="adj1" fmla="val -80858"/>
                <a:gd name="adj2" fmla="val 49984"/>
                <a:gd name="adj3" fmla="val -80858"/>
              </a:avLst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grpSp>
          <p:nvGrpSpPr>
            <p:cNvPr id="202" name=""/>
            <p:cNvGrpSpPr/>
            <p:nvPr/>
          </p:nvGrpSpPr>
          <p:grpSpPr>
            <a:xfrm>
              <a:off x="1846440" y="1523880"/>
              <a:ext cx="161640" cy="333360"/>
              <a:chOff x="1846440" y="1523880"/>
              <a:chExt cx="161640" cy="333360"/>
            </a:xfrm>
          </p:grpSpPr>
          <p:sp>
            <p:nvSpPr>
              <p:cNvPr id="203" name=""/>
              <p:cNvSpPr/>
              <p:nvPr/>
            </p:nvSpPr>
            <p:spPr>
              <a:xfrm>
                <a:off x="1868400" y="1523880"/>
                <a:ext cx="117720" cy="110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27080" y="1634400"/>
                <a:ext cx="0" cy="12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1856880" y="1763280"/>
                <a:ext cx="69480" cy="9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928160" y="1764720"/>
                <a:ext cx="69480" cy="9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846440" y="1672200"/>
                <a:ext cx="16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 rot="5400000">
              <a:off x="1695960" y="2140560"/>
              <a:ext cx="469800" cy="125640"/>
            </a:xfrm>
            <a:prstGeom prst="leftRightArrow">
              <a:avLst>
                <a:gd name="adj1" fmla="val 50000"/>
                <a:gd name="adj2" fmla="val 7443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613520" y="3733920"/>
            <a:ext cx="1358280" cy="2063520"/>
            <a:chOff x="1613520" y="3733920"/>
            <a:chExt cx="1358280" cy="2063520"/>
          </a:xfrm>
        </p:grpSpPr>
        <p:sp>
          <p:nvSpPr>
            <p:cNvPr id="210" name=""/>
            <p:cNvSpPr/>
            <p:nvPr/>
          </p:nvSpPr>
          <p:spPr>
            <a:xfrm>
              <a:off x="1976400" y="4713120"/>
              <a:ext cx="995400" cy="1084320"/>
            </a:xfrm>
            <a:prstGeom prst="flowChart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1727280" y="3773160"/>
              <a:ext cx="652320" cy="687240"/>
              <a:chOff x="1727280" y="3773160"/>
              <a:chExt cx="652320" cy="687240"/>
            </a:xfrm>
          </p:grpSpPr>
          <p:sp>
            <p:nvSpPr>
              <p:cNvPr id="212" name=""/>
              <p:cNvSpPr/>
              <p:nvPr/>
            </p:nvSpPr>
            <p:spPr>
              <a:xfrm rot="13175400">
                <a:off x="1807200" y="3880440"/>
                <a:ext cx="492120" cy="42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63" y="5924"/>
                    </a:moveTo>
                    <a:arcTo wR="10800" hR="10800" stAng="-9189620" swAng="8125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63" y="5924"/>
                    </a:moveTo>
                    <a:arcTo wR="10800" hR="10800" stAng="-9189620" swAng="812552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848960" y="4255920"/>
                <a:ext cx="123120" cy="204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2193840" y="4835520"/>
              <a:ext cx="585720" cy="3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Field Syst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06800" y="5345280"/>
              <a:ext cx="585720" cy="33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Mark5 Syst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6" name=""/>
            <p:cNvCxnSpPr>
              <a:stCxn id="214" idx="0"/>
              <a:endCxn id="213" idx="3"/>
            </p:cNvCxnSpPr>
            <p:nvPr/>
          </p:nvCxnSpPr>
          <p:spPr>
            <a:xfrm flipV="1" rot="16200000">
              <a:off x="2010600" y="4359960"/>
              <a:ext cx="375480" cy="575640"/>
            </a:xfrm>
            <a:prstGeom prst="curvedConnector5">
              <a:avLst>
                <a:gd name="adj1" fmla="val 49904"/>
                <a:gd name="adj2" fmla="val 50000"/>
                <a:gd name="adj3" fmla="val 4990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" name=""/>
            <p:cNvCxnSpPr>
              <a:stCxn id="213" idx="1"/>
              <a:endCxn id="215" idx="1"/>
            </p:cNvCxnSpPr>
            <p:nvPr/>
          </p:nvCxnSpPr>
          <p:spPr>
            <a:xfrm flipH="1" flipV="1" rot="10800000">
              <a:off x="1878480" y="4358880"/>
              <a:ext cx="327960" cy="1154880"/>
            </a:xfrm>
            <a:prstGeom prst="curvedConnector5">
              <a:avLst>
                <a:gd name="adj1" fmla="val -80879"/>
                <a:gd name="adj2" fmla="val 49984"/>
                <a:gd name="adj3" fmla="val -80879"/>
              </a:avLst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grpSp>
          <p:nvGrpSpPr>
            <p:cNvPr id="218" name=""/>
            <p:cNvGrpSpPr/>
            <p:nvPr/>
          </p:nvGrpSpPr>
          <p:grpSpPr>
            <a:xfrm>
              <a:off x="2684520" y="3733920"/>
              <a:ext cx="162000" cy="333360"/>
              <a:chOff x="2684520" y="3733920"/>
              <a:chExt cx="162000" cy="333360"/>
            </a:xfrm>
          </p:grpSpPr>
          <p:sp>
            <p:nvSpPr>
              <p:cNvPr id="219" name=""/>
              <p:cNvSpPr/>
              <p:nvPr/>
            </p:nvSpPr>
            <p:spPr>
              <a:xfrm>
                <a:off x="2706480" y="3733920"/>
                <a:ext cx="118080" cy="110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65520" y="3844440"/>
                <a:ext cx="0" cy="12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2695320" y="3973320"/>
                <a:ext cx="69840" cy="9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766600" y="3974760"/>
                <a:ext cx="69840" cy="9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684520" y="3882240"/>
                <a:ext cx="16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rot="5400000">
              <a:off x="2534400" y="4350600"/>
              <a:ext cx="470160" cy="125280"/>
            </a:xfrm>
            <a:prstGeom prst="leftRightArrow">
              <a:avLst>
                <a:gd name="adj1" fmla="val 50000"/>
                <a:gd name="adj2" fmla="val 7471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949080" y="1828800"/>
            <a:ext cx="1356840" cy="2063880"/>
            <a:chOff x="6949080" y="1828800"/>
            <a:chExt cx="1356840" cy="2063880"/>
          </a:xfrm>
        </p:grpSpPr>
        <p:sp>
          <p:nvSpPr>
            <p:cNvPr id="226" name=""/>
            <p:cNvSpPr/>
            <p:nvPr/>
          </p:nvSpPr>
          <p:spPr>
            <a:xfrm>
              <a:off x="7310520" y="2808360"/>
              <a:ext cx="995400" cy="1084320"/>
            </a:xfrm>
            <a:prstGeom prst="flowChart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7061040" y="1868040"/>
              <a:ext cx="651960" cy="687600"/>
              <a:chOff x="7061040" y="1868040"/>
              <a:chExt cx="651960" cy="687600"/>
            </a:xfrm>
          </p:grpSpPr>
          <p:sp>
            <p:nvSpPr>
              <p:cNvPr id="228" name=""/>
              <p:cNvSpPr/>
              <p:nvPr/>
            </p:nvSpPr>
            <p:spPr>
              <a:xfrm rot="13175400">
                <a:off x="7140960" y="1975680"/>
                <a:ext cx="491760" cy="42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63" y="5924"/>
                    </a:moveTo>
                    <a:arcTo wR="10800" hR="10800" stAng="-9189620" swAng="8125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63" y="5924"/>
                    </a:moveTo>
                    <a:arcTo wR="10800" hR="10800" stAng="-9189620" swAng="812552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183080" y="2351160"/>
                <a:ext cx="123120" cy="204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7527960" y="2930400"/>
              <a:ext cx="585720" cy="3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Field Syst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40560" y="3440160"/>
              <a:ext cx="5857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Mark5 Syst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2" name=""/>
            <p:cNvCxnSpPr>
              <a:stCxn id="230" idx="0"/>
              <a:endCxn id="229" idx="3"/>
            </p:cNvCxnSpPr>
            <p:nvPr/>
          </p:nvCxnSpPr>
          <p:spPr>
            <a:xfrm flipV="1" rot="16200000">
              <a:off x="7345080" y="2455200"/>
              <a:ext cx="375120" cy="575280"/>
            </a:xfrm>
            <a:prstGeom prst="curvedConnector5">
              <a:avLst>
                <a:gd name="adj1" fmla="val 49855"/>
                <a:gd name="adj2" fmla="val 49968"/>
                <a:gd name="adj3" fmla="val 4985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3" name=""/>
            <p:cNvCxnSpPr>
              <a:stCxn id="229" idx="1"/>
              <a:endCxn id="231" idx="1"/>
            </p:cNvCxnSpPr>
            <p:nvPr/>
          </p:nvCxnSpPr>
          <p:spPr>
            <a:xfrm flipH="1" flipV="1" rot="10800000">
              <a:off x="7213320" y="2453760"/>
              <a:ext cx="327600" cy="1154880"/>
            </a:xfrm>
            <a:prstGeom prst="curvedConnector5">
              <a:avLst>
                <a:gd name="adj1" fmla="val -80858"/>
                <a:gd name="adj2" fmla="val 49984"/>
                <a:gd name="adj3" fmla="val -80858"/>
              </a:avLst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grpSp>
          <p:nvGrpSpPr>
            <p:cNvPr id="234" name=""/>
            <p:cNvGrpSpPr/>
            <p:nvPr/>
          </p:nvGrpSpPr>
          <p:grpSpPr>
            <a:xfrm>
              <a:off x="8018640" y="1828800"/>
              <a:ext cx="161640" cy="333360"/>
              <a:chOff x="8018640" y="1828800"/>
              <a:chExt cx="161640" cy="333360"/>
            </a:xfrm>
          </p:grpSpPr>
          <p:sp>
            <p:nvSpPr>
              <p:cNvPr id="235" name=""/>
              <p:cNvSpPr/>
              <p:nvPr/>
            </p:nvSpPr>
            <p:spPr>
              <a:xfrm>
                <a:off x="8040600" y="1828800"/>
                <a:ext cx="117720" cy="110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099280" y="1939320"/>
                <a:ext cx="0" cy="12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8029080" y="2068200"/>
                <a:ext cx="69480" cy="9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100360" y="2069640"/>
                <a:ext cx="69480" cy="9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018640" y="1977120"/>
                <a:ext cx="16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 rot="5400000">
              <a:off x="7868160" y="2445480"/>
              <a:ext cx="469800" cy="125640"/>
            </a:xfrm>
            <a:prstGeom prst="leftRightArrow">
              <a:avLst>
                <a:gd name="adj1" fmla="val 50000"/>
                <a:gd name="adj2" fmla="val 7443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41" name=""/>
          <p:cNvCxnSpPr>
            <a:stCxn id="177" idx="3"/>
            <a:endCxn id="210" idx="3"/>
          </p:cNvCxnSpPr>
          <p:nvPr/>
        </p:nvCxnSpPr>
        <p:spPr>
          <a:xfrm rot="5400000">
            <a:off x="2700360" y="3842280"/>
            <a:ext cx="168516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177" idx="3"/>
            <a:endCxn id="226" idx="2"/>
          </p:cNvCxnSpPr>
          <p:nvPr/>
        </p:nvCxnSpPr>
        <p:spPr>
          <a:xfrm flipH="1" rot="16200000">
            <a:off x="5800320" y="1884960"/>
            <a:ext cx="321480" cy="3694680"/>
          </a:xfrm>
          <a:prstGeom prst="curvedConnector5">
            <a:avLst>
              <a:gd name="adj1" fmla="val 170739"/>
              <a:gd name="adj2" fmla="val 50000"/>
              <a:gd name="adj3" fmla="val 170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194" idx="3"/>
            <a:endCxn id="189" idx="4"/>
          </p:cNvCxnSpPr>
          <p:nvPr/>
        </p:nvCxnSpPr>
        <p:spPr>
          <a:xfrm>
            <a:off x="2133360" y="3046320"/>
            <a:ext cx="2230920" cy="1975680"/>
          </a:xfrm>
          <a:prstGeom prst="curvedConnector5">
            <a:avLst>
              <a:gd name="adj1" fmla="val 49741"/>
              <a:gd name="adj2" fmla="val 49990"/>
              <a:gd name="adj3" fmla="val 49741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10" idx="2"/>
            <a:endCxn id="189" idx="5"/>
          </p:cNvCxnSpPr>
          <p:nvPr/>
        </p:nvCxnSpPr>
        <p:spPr>
          <a:xfrm flipH="1" flipV="1" rot="5400000">
            <a:off x="3030120" y="4464360"/>
            <a:ext cx="776880" cy="1889640"/>
          </a:xfrm>
          <a:prstGeom prst="curvedConnector5">
            <a:avLst>
              <a:gd name="adj1" fmla="val -29207"/>
              <a:gd name="adj2" fmla="val 31459"/>
              <a:gd name="adj3" fmla="val -29207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26" idx="3"/>
            <a:endCxn id="189" idx="6"/>
          </p:cNvCxnSpPr>
          <p:nvPr/>
        </p:nvCxnSpPr>
        <p:spPr>
          <a:xfrm flipH="1">
            <a:off x="6689160" y="3350880"/>
            <a:ext cx="1616760" cy="1670760"/>
          </a:xfrm>
          <a:prstGeom prst="curvedConnector5">
            <a:avLst>
              <a:gd name="adj1" fmla="val -14031"/>
              <a:gd name="adj2" fmla="val 50000"/>
              <a:gd name="adj3" fmla="val -14031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175" idx="3"/>
            <a:endCxn id="189" idx="7"/>
          </p:cNvCxnSpPr>
          <p:nvPr/>
        </p:nvCxnSpPr>
        <p:spPr>
          <a:xfrm flipH="1" rot="16200000">
            <a:off x="4784400" y="3588120"/>
            <a:ext cx="747000" cy="732600"/>
          </a:xfrm>
          <a:prstGeom prst="curvedConnector5">
            <a:avLst>
              <a:gd name="adj1" fmla="val 44021"/>
              <a:gd name="adj2" fmla="val 50000"/>
              <a:gd name="adj3" fmla="val 440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174" idx="3"/>
            <a:endCxn id="189" idx="8"/>
          </p:cNvCxnSpPr>
          <p:nvPr/>
        </p:nvCxnSpPr>
        <p:spPr>
          <a:xfrm flipH="1" rot="16200000">
            <a:off x="5113080" y="3916080"/>
            <a:ext cx="747000" cy="76680"/>
          </a:xfrm>
          <a:prstGeom prst="curvedConnector5">
            <a:avLst>
              <a:gd name="adj1" fmla="val 44021"/>
              <a:gd name="adj2" fmla="val 50000"/>
              <a:gd name="adj3" fmla="val 440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8" name=""/>
          <p:cNvGrpSpPr/>
          <p:nvPr/>
        </p:nvGrpSpPr>
        <p:grpSpPr>
          <a:xfrm>
            <a:off x="2590920" y="1295280"/>
            <a:ext cx="158760" cy="333360"/>
            <a:chOff x="2590920" y="1295280"/>
            <a:chExt cx="158760" cy="333360"/>
          </a:xfrm>
        </p:grpSpPr>
        <p:sp>
          <p:nvSpPr>
            <p:cNvPr id="249" name=""/>
            <p:cNvSpPr/>
            <p:nvPr/>
          </p:nvSpPr>
          <p:spPr>
            <a:xfrm>
              <a:off x="2612160" y="1295280"/>
              <a:ext cx="115560" cy="11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70120" y="1405800"/>
              <a:ext cx="0" cy="1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2601720" y="1534680"/>
              <a:ext cx="68400" cy="9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71200" y="1536120"/>
              <a:ext cx="68400" cy="9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90920" y="1443600"/>
              <a:ext cx="15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666880" y="1676520"/>
            <a:ext cx="685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rinciple Investig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43200" y="1447920"/>
            <a:ext cx="549360" cy="129960"/>
          </a:xfrm>
          <a:prstGeom prst="leftRightArrow">
            <a:avLst>
              <a:gd name="adj1" fmla="val 50000"/>
              <a:gd name="adj2" fmla="val 841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"/>
          <p:cNvCxnSpPr>
            <a:stCxn id="177" idx="2"/>
            <a:endCxn id="194" idx="3"/>
          </p:cNvCxnSpPr>
          <p:nvPr/>
        </p:nvCxnSpPr>
        <p:spPr>
          <a:xfrm rot="10800000">
            <a:off x="2133000" y="3045600"/>
            <a:ext cx="1753200" cy="378720"/>
          </a:xfrm>
          <a:prstGeom prst="curvedConnector5">
            <a:avLst>
              <a:gd name="adj1" fmla="val 49989"/>
              <a:gd name="adj2" fmla="val 49952"/>
              <a:gd name="adj3" fmla="val 499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6172200" y="2979720"/>
            <a:ext cx="66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entral oper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6477120" y="2598840"/>
            <a:ext cx="158760" cy="333360"/>
            <a:chOff x="6477120" y="2598840"/>
            <a:chExt cx="158760" cy="333360"/>
          </a:xfrm>
        </p:grpSpPr>
        <p:sp>
          <p:nvSpPr>
            <p:cNvPr id="259" name=""/>
            <p:cNvSpPr/>
            <p:nvPr/>
          </p:nvSpPr>
          <p:spPr>
            <a:xfrm>
              <a:off x="6498360" y="2598840"/>
              <a:ext cx="115560" cy="11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56320" y="2709360"/>
              <a:ext cx="0" cy="1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6487920" y="2838240"/>
              <a:ext cx="68400" cy="9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57400" y="2839680"/>
              <a:ext cx="68400" cy="9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7120" y="2747160"/>
              <a:ext cx="15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5867280" y="2674800"/>
            <a:ext cx="549360" cy="130320"/>
          </a:xfrm>
          <a:prstGeom prst="leftRightArrow">
            <a:avLst>
              <a:gd name="adj1" fmla="val 50000"/>
              <a:gd name="adj2" fmla="val 839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96080" y="1523880"/>
            <a:ext cx="7621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elescop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oper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97640" y="5284800"/>
            <a:ext cx="838440" cy="45720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Verdana"/>
              </a:rPr>
              <a:t>JIVE arch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189" idx="9"/>
            <a:endCxn id="266" idx="3"/>
          </p:cNvCxnSpPr>
          <p:nvPr/>
        </p:nvCxnSpPr>
        <p:spPr>
          <a:xfrm flipH="1" flipV="1" rot="5400000">
            <a:off x="6639120" y="4625640"/>
            <a:ext cx="61200" cy="2292840"/>
          </a:xfrm>
          <a:prstGeom prst="curvedConnector5">
            <a:avLst>
              <a:gd name="adj1" fmla="val -381065"/>
              <a:gd name="adj2" fmla="val 50000"/>
              <a:gd name="adj3" fmla="val -381065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6149880" y="1459080"/>
            <a:ext cx="533520" cy="30456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E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8" idx="3"/>
            <a:endCxn id="173" idx="0"/>
          </p:cNvCxnSpPr>
          <p:nvPr/>
        </p:nvCxnSpPr>
        <p:spPr>
          <a:xfrm rot="5400000">
            <a:off x="5536440" y="1558800"/>
            <a:ext cx="675360" cy="1085040"/>
          </a:xfrm>
          <a:prstGeom prst="curvedConnector5">
            <a:avLst>
              <a:gd name="adj1" fmla="val 49866"/>
              <a:gd name="adj2" fmla="val 49983"/>
              <a:gd name="adj3" fmla="val 498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 flipH="1" flipV="1">
            <a:off x="2114640" y="1884240"/>
            <a:ext cx="1598400" cy="59544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831760" y="2720880"/>
            <a:ext cx="903240" cy="93672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850000" y="1883880"/>
            <a:ext cx="2071800" cy="40644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35160" y="1442880"/>
            <a:ext cx="1589040" cy="716040"/>
          </a:xfrm>
          <a:custGeom>
            <a:avLst/>
            <a:gdLst/>
            <a:ahLst/>
            <a:rect l="l" t="t" r="r" b="b"/>
            <a:pathLst>
              <a:path w="1001" h="625">
                <a:moveTo>
                  <a:pt x="1001" y="625"/>
                </a:moveTo>
                <a:cubicBezTo>
                  <a:pt x="626" y="534"/>
                  <a:pt x="252" y="444"/>
                  <a:pt x="126" y="340"/>
                </a:cubicBezTo>
                <a:cubicBezTo>
                  <a:pt x="0" y="236"/>
                  <a:pt x="122" y="118"/>
                  <a:pt x="244" y="0"/>
                </a:cubicBezTo>
              </a:path>
            </a:pathLst>
          </a:custGeom>
          <a:noFill/>
          <a:ln w="9360">
            <a:solidFill>
              <a:srgbClr val="008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FABRIC meeting at Poznan, Po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CDFE-6CD8-4654-B424-2C5031109DA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-09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id considerations/aspe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use grid processing powe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available, no hardware investment requi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will be upgraded regular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gree of distribution is trade-off betwe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ssing power at the grid no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transport capacity to the grid no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logistics and coord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re complicated when more distribu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ing at telescope and grid no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ion related processing at telescope site and correlation elsewh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processing at grid no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FABRIC meeting at Poznan, Po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1B2-0123-4B67-946A-2D594F43FD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-09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ta distribution over grid sites (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838440" y="1765440"/>
            <a:ext cx="23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eline sl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860400" y="2544120"/>
            <a:ext cx="329040" cy="349920"/>
            <a:chOff x="860400" y="2544120"/>
            <a:chExt cx="329040" cy="349920"/>
          </a:xfrm>
        </p:grpSpPr>
        <p:sp>
          <p:nvSpPr>
            <p:cNvPr id="279" name=""/>
            <p:cNvSpPr/>
            <p:nvPr/>
          </p:nvSpPr>
          <p:spPr>
            <a:xfrm rot="13175400">
              <a:off x="901080" y="259776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21600" y="278964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892600" y="2544120"/>
            <a:ext cx="329040" cy="349920"/>
            <a:chOff x="2892600" y="2544120"/>
            <a:chExt cx="329040" cy="349920"/>
          </a:xfrm>
        </p:grpSpPr>
        <p:sp>
          <p:nvSpPr>
            <p:cNvPr id="282" name=""/>
            <p:cNvSpPr/>
            <p:nvPr/>
          </p:nvSpPr>
          <p:spPr>
            <a:xfrm rot="13175400">
              <a:off x="2933280" y="259776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53800" y="278964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1914480" y="2679840"/>
            <a:ext cx="152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81160" y="3594240"/>
            <a:ext cx="15264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14480" y="4660920"/>
            <a:ext cx="152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0" idx="4"/>
            <a:endCxn id="284" idx="1"/>
          </p:cNvCxnSpPr>
          <p:nvPr/>
        </p:nvCxnSpPr>
        <p:spPr>
          <a:xfrm flipV="1">
            <a:off x="984240" y="2793600"/>
            <a:ext cx="930960" cy="100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83" idx="2"/>
            <a:endCxn id="284" idx="3"/>
          </p:cNvCxnSpPr>
          <p:nvPr/>
        </p:nvCxnSpPr>
        <p:spPr>
          <a:xfrm flipH="1" flipV="1">
            <a:off x="2066040" y="2793600"/>
            <a:ext cx="888120" cy="100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90" idx="2"/>
            <a:endCxn id="285" idx="2"/>
          </p:cNvCxnSpPr>
          <p:nvPr/>
        </p:nvCxnSpPr>
        <p:spPr>
          <a:xfrm flipV="1">
            <a:off x="2953800" y="3822120"/>
            <a:ext cx="104040" cy="8881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3" idx="2"/>
            <a:endCxn id="285" idx="0"/>
          </p:cNvCxnSpPr>
          <p:nvPr/>
        </p:nvCxnSpPr>
        <p:spPr>
          <a:xfrm>
            <a:off x="2953800" y="2893680"/>
            <a:ext cx="104040" cy="700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93" idx="4"/>
            <a:endCxn id="286" idx="1"/>
          </p:cNvCxnSpPr>
          <p:nvPr/>
        </p:nvCxnSpPr>
        <p:spPr>
          <a:xfrm>
            <a:off x="982800" y="4710240"/>
            <a:ext cx="932400" cy="65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90" idx="2"/>
            <a:endCxn id="286" idx="3"/>
          </p:cNvCxnSpPr>
          <p:nvPr/>
        </p:nvCxnSpPr>
        <p:spPr>
          <a:xfrm flipH="1">
            <a:off x="2066040" y="4710240"/>
            <a:ext cx="888120" cy="65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847800" y="3594240"/>
            <a:ext cx="152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"/>
          <p:cNvCxnSpPr>
            <a:stCxn id="280" idx="4"/>
            <a:endCxn id="295" idx="0"/>
          </p:cNvCxnSpPr>
          <p:nvPr/>
        </p:nvCxnSpPr>
        <p:spPr>
          <a:xfrm flipH="1">
            <a:off x="923400" y="2893680"/>
            <a:ext cx="61200" cy="700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3" idx="4"/>
            <a:endCxn id="295" idx="2"/>
          </p:cNvCxnSpPr>
          <p:nvPr/>
        </p:nvCxnSpPr>
        <p:spPr>
          <a:xfrm flipH="1" flipV="1">
            <a:off x="923400" y="3822120"/>
            <a:ext cx="59760" cy="8881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1914480" y="3213000"/>
            <a:ext cx="152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"/>
          <p:cNvCxnSpPr>
            <a:stCxn id="283" idx="2"/>
            <a:endCxn id="298" idx="3"/>
          </p:cNvCxnSpPr>
          <p:nvPr/>
        </p:nvCxnSpPr>
        <p:spPr>
          <a:xfrm flipH="1">
            <a:off x="2066040" y="2894040"/>
            <a:ext cx="888120" cy="434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93" idx="4"/>
            <a:endCxn id="298" idx="1"/>
          </p:cNvCxnSpPr>
          <p:nvPr/>
        </p:nvCxnSpPr>
        <p:spPr>
          <a:xfrm flipV="1">
            <a:off x="982800" y="3326760"/>
            <a:ext cx="932400" cy="13834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1914480" y="3975120"/>
            <a:ext cx="152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290" idx="2"/>
            <a:endCxn id="301" idx="3"/>
          </p:cNvCxnSpPr>
          <p:nvPr/>
        </p:nvCxnSpPr>
        <p:spPr>
          <a:xfrm flipH="1" flipV="1">
            <a:off x="2066040" y="4088520"/>
            <a:ext cx="888120" cy="621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80" idx="4"/>
            <a:endCxn id="301" idx="1"/>
          </p:cNvCxnSpPr>
          <p:nvPr/>
        </p:nvCxnSpPr>
        <p:spPr>
          <a:xfrm>
            <a:off x="984240" y="2894040"/>
            <a:ext cx="930960" cy="1195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3743280" y="226692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ll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e implementation at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ication of large data rates, especially when number of baselines is l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logistics comp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alability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23960" y="3594240"/>
            <a:ext cx="152640" cy="228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"/>
          <p:cNvCxnSpPr>
            <a:stCxn id="295" idx="3"/>
            <a:endCxn id="305" idx="1"/>
          </p:cNvCxnSpPr>
          <p:nvPr/>
        </p:nvCxnSpPr>
        <p:spPr>
          <a:xfrm>
            <a:off x="999720" y="370800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284" idx="2"/>
            <a:endCxn id="305" idx="0"/>
          </p:cNvCxnSpPr>
          <p:nvPr/>
        </p:nvCxnSpPr>
        <p:spPr>
          <a:xfrm>
            <a:off x="1990440" y="2908080"/>
            <a:ext cx="6102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298" idx="2"/>
            <a:endCxn id="305" idx="1"/>
          </p:cNvCxnSpPr>
          <p:nvPr/>
        </p:nvCxnSpPr>
        <p:spPr>
          <a:xfrm>
            <a:off x="1990440" y="3441240"/>
            <a:ext cx="5338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86" idx="0"/>
            <a:endCxn id="305" idx="2"/>
          </p:cNvCxnSpPr>
          <p:nvPr/>
        </p:nvCxnSpPr>
        <p:spPr>
          <a:xfrm flipV="1">
            <a:off x="1990440" y="3822480"/>
            <a:ext cx="6102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1" idx="0"/>
            <a:endCxn id="305" idx="1"/>
          </p:cNvCxnSpPr>
          <p:nvPr/>
        </p:nvCxnSpPr>
        <p:spPr>
          <a:xfrm flipV="1">
            <a:off x="1990440" y="3708000"/>
            <a:ext cx="5338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85" idx="1"/>
            <a:endCxn id="305" idx="3"/>
          </p:cNvCxnSpPr>
          <p:nvPr/>
        </p:nvCxnSpPr>
        <p:spPr>
          <a:xfrm flipH="1">
            <a:off x="2676240" y="370800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12" name=""/>
          <p:cNvGrpSpPr/>
          <p:nvPr/>
        </p:nvGrpSpPr>
        <p:grpSpPr>
          <a:xfrm>
            <a:off x="2892600" y="4360320"/>
            <a:ext cx="329040" cy="349920"/>
            <a:chOff x="2892600" y="4360320"/>
            <a:chExt cx="329040" cy="349920"/>
          </a:xfrm>
        </p:grpSpPr>
        <p:sp>
          <p:nvSpPr>
            <p:cNvPr id="313" name=""/>
            <p:cNvSpPr/>
            <p:nvPr/>
          </p:nvSpPr>
          <p:spPr>
            <a:xfrm rot="13175400">
              <a:off x="2933280" y="441396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53800" y="460584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858960" y="4360320"/>
            <a:ext cx="329040" cy="349920"/>
            <a:chOff x="858960" y="4360320"/>
            <a:chExt cx="329040" cy="349920"/>
          </a:xfrm>
        </p:grpSpPr>
        <p:sp>
          <p:nvSpPr>
            <p:cNvPr id="315" name=""/>
            <p:cNvSpPr/>
            <p:nvPr/>
          </p:nvSpPr>
          <p:spPr>
            <a:xfrm rot="13175400">
              <a:off x="899640" y="441396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20160" y="460584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FABRIC meeting at Poznan, Po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5C10-C4D0-4FAA-8D8E-1AF91CB357E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-09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ta distribution over grid sites 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635040" y="1098000"/>
            <a:ext cx="329040" cy="349920"/>
            <a:chOff x="635040" y="1098000"/>
            <a:chExt cx="329040" cy="349920"/>
          </a:xfrm>
        </p:grpSpPr>
        <p:sp>
          <p:nvSpPr>
            <p:cNvPr id="318" name=""/>
            <p:cNvSpPr/>
            <p:nvPr/>
          </p:nvSpPr>
          <p:spPr>
            <a:xfrm rot="13175400">
              <a:off x="675720" y="115164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6240" y="134352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35040" y="2556720"/>
            <a:ext cx="329040" cy="349920"/>
            <a:chOff x="635040" y="2556720"/>
            <a:chExt cx="329040" cy="349920"/>
          </a:xfrm>
        </p:grpSpPr>
        <p:sp>
          <p:nvSpPr>
            <p:cNvPr id="321" name=""/>
            <p:cNvSpPr/>
            <p:nvPr/>
          </p:nvSpPr>
          <p:spPr>
            <a:xfrm rot="13175400">
              <a:off x="675720" y="261036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96240" y="280224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197080" y="2556720"/>
            <a:ext cx="329040" cy="349920"/>
            <a:chOff x="2197080" y="2556720"/>
            <a:chExt cx="329040" cy="349920"/>
          </a:xfrm>
        </p:grpSpPr>
        <p:sp>
          <p:nvSpPr>
            <p:cNvPr id="324" name=""/>
            <p:cNvSpPr/>
            <p:nvPr/>
          </p:nvSpPr>
          <p:spPr>
            <a:xfrm rot="13175400">
              <a:off x="2237760" y="261036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58280" y="280224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197080" y="1098000"/>
            <a:ext cx="329040" cy="349920"/>
            <a:chOff x="2197080" y="1098000"/>
            <a:chExt cx="329040" cy="349920"/>
          </a:xfrm>
        </p:grpSpPr>
        <p:sp>
          <p:nvSpPr>
            <p:cNvPr id="327" name=""/>
            <p:cNvSpPr/>
            <p:nvPr/>
          </p:nvSpPr>
          <p:spPr>
            <a:xfrm rot="13175400">
              <a:off x="2237760" y="115164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58280" y="134352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96880" y="3442680"/>
            <a:ext cx="329040" cy="349920"/>
            <a:chOff x="596880" y="3442680"/>
            <a:chExt cx="329040" cy="349920"/>
          </a:xfrm>
        </p:grpSpPr>
        <p:sp>
          <p:nvSpPr>
            <p:cNvPr id="330" name=""/>
            <p:cNvSpPr/>
            <p:nvPr/>
          </p:nvSpPr>
          <p:spPr>
            <a:xfrm rot="13175400">
              <a:off x="637560" y="349632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8080" y="368820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96880" y="4968360"/>
            <a:ext cx="329040" cy="349920"/>
            <a:chOff x="596880" y="4968360"/>
            <a:chExt cx="329040" cy="349920"/>
          </a:xfrm>
        </p:grpSpPr>
        <p:sp>
          <p:nvSpPr>
            <p:cNvPr id="333" name=""/>
            <p:cNvSpPr/>
            <p:nvPr/>
          </p:nvSpPr>
          <p:spPr>
            <a:xfrm rot="13175400">
              <a:off x="637560" y="502200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58080" y="521388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197080" y="3444120"/>
            <a:ext cx="329040" cy="349920"/>
            <a:chOff x="2197080" y="3444120"/>
            <a:chExt cx="329040" cy="349920"/>
          </a:xfrm>
        </p:grpSpPr>
        <p:sp>
          <p:nvSpPr>
            <p:cNvPr id="336" name=""/>
            <p:cNvSpPr/>
            <p:nvPr/>
          </p:nvSpPr>
          <p:spPr>
            <a:xfrm rot="13175400">
              <a:off x="2237760" y="349776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258280" y="368964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2197080" y="4968360"/>
            <a:ext cx="329040" cy="349920"/>
            <a:chOff x="2197080" y="4968360"/>
            <a:chExt cx="329040" cy="349920"/>
          </a:xfrm>
        </p:grpSpPr>
        <p:sp>
          <p:nvSpPr>
            <p:cNvPr id="339" name=""/>
            <p:cNvSpPr/>
            <p:nvPr/>
          </p:nvSpPr>
          <p:spPr>
            <a:xfrm rot="13175400">
              <a:off x="2237760" y="502200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58280" y="521388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837320" y="2556720"/>
            <a:ext cx="329040" cy="349920"/>
            <a:chOff x="4837320" y="2556720"/>
            <a:chExt cx="329040" cy="349920"/>
          </a:xfrm>
        </p:grpSpPr>
        <p:sp>
          <p:nvSpPr>
            <p:cNvPr id="342" name=""/>
            <p:cNvSpPr/>
            <p:nvPr/>
          </p:nvSpPr>
          <p:spPr>
            <a:xfrm rot="13175400">
              <a:off x="4878000" y="261036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98520" y="280224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388200" y="2556720"/>
            <a:ext cx="329040" cy="349920"/>
            <a:chOff x="6388200" y="2556720"/>
            <a:chExt cx="329040" cy="349920"/>
          </a:xfrm>
        </p:grpSpPr>
        <p:sp>
          <p:nvSpPr>
            <p:cNvPr id="345" name=""/>
            <p:cNvSpPr/>
            <p:nvPr/>
          </p:nvSpPr>
          <p:spPr>
            <a:xfrm rot="13175400">
              <a:off x="6428880" y="261036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49400" y="280224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837320" y="1098000"/>
            <a:ext cx="329040" cy="349920"/>
            <a:chOff x="4837320" y="1098000"/>
            <a:chExt cx="329040" cy="349920"/>
          </a:xfrm>
        </p:grpSpPr>
        <p:sp>
          <p:nvSpPr>
            <p:cNvPr id="348" name=""/>
            <p:cNvSpPr/>
            <p:nvPr/>
          </p:nvSpPr>
          <p:spPr>
            <a:xfrm rot="13175400">
              <a:off x="4878000" y="115164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898520" y="134352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388200" y="1098000"/>
            <a:ext cx="329040" cy="349920"/>
            <a:chOff x="6388200" y="1098000"/>
            <a:chExt cx="329040" cy="349920"/>
          </a:xfrm>
        </p:grpSpPr>
        <p:sp>
          <p:nvSpPr>
            <p:cNvPr id="351" name=""/>
            <p:cNvSpPr/>
            <p:nvPr/>
          </p:nvSpPr>
          <p:spPr>
            <a:xfrm rot="13175400">
              <a:off x="6428880" y="115164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49400" y="134352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371600" y="1828800"/>
            <a:ext cx="22860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19" idx="4"/>
            <a:endCxn id="353" idx="1"/>
          </p:cNvCxnSpPr>
          <p:nvPr/>
        </p:nvCxnSpPr>
        <p:spPr>
          <a:xfrm>
            <a:off x="758880" y="1447560"/>
            <a:ext cx="613440" cy="5720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22" idx="4"/>
            <a:endCxn id="353" idx="1"/>
          </p:cNvCxnSpPr>
          <p:nvPr/>
        </p:nvCxnSpPr>
        <p:spPr>
          <a:xfrm flipV="1">
            <a:off x="758880" y="2018520"/>
            <a:ext cx="613440" cy="8881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325" idx="2"/>
            <a:endCxn id="353" idx="3"/>
          </p:cNvCxnSpPr>
          <p:nvPr/>
        </p:nvCxnSpPr>
        <p:spPr>
          <a:xfrm flipH="1" flipV="1">
            <a:off x="1599840" y="2018520"/>
            <a:ext cx="659520" cy="8881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328" idx="2"/>
            <a:endCxn id="353" idx="3"/>
          </p:cNvCxnSpPr>
          <p:nvPr/>
        </p:nvCxnSpPr>
        <p:spPr>
          <a:xfrm flipH="1">
            <a:off x="1599840" y="1447560"/>
            <a:ext cx="659520" cy="5720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8" name=""/>
          <p:cNvSpPr/>
          <p:nvPr/>
        </p:nvSpPr>
        <p:spPr>
          <a:xfrm>
            <a:off x="5638680" y="1676520"/>
            <a:ext cx="15264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638680" y="1981080"/>
            <a:ext cx="15264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638680" y="2286000"/>
            <a:ext cx="15264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"/>
          <p:cNvCxnSpPr>
            <a:stCxn id="349" idx="4"/>
            <a:endCxn id="358" idx="1"/>
          </p:cNvCxnSpPr>
          <p:nvPr/>
        </p:nvCxnSpPr>
        <p:spPr>
          <a:xfrm>
            <a:off x="4960440" y="1447920"/>
            <a:ext cx="678600" cy="343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3" idx="4"/>
            <a:endCxn id="358" idx="1"/>
          </p:cNvCxnSpPr>
          <p:nvPr/>
        </p:nvCxnSpPr>
        <p:spPr>
          <a:xfrm flipV="1">
            <a:off x="4960440" y="1790280"/>
            <a:ext cx="678600" cy="1116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8" idx="3"/>
          </p:cNvCxnSpPr>
          <p:nvPr/>
        </p:nvCxnSpPr>
        <p:spPr>
          <a:xfrm flipH="1">
            <a:off x="5790960" y="1447920"/>
            <a:ext cx="659520" cy="343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46" idx="2"/>
            <a:endCxn id="358" idx="3"/>
          </p:cNvCxnSpPr>
          <p:nvPr/>
        </p:nvCxnSpPr>
        <p:spPr>
          <a:xfrm flipH="1" flipV="1">
            <a:off x="5790960" y="1790280"/>
            <a:ext cx="659520" cy="1116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5" name=""/>
          <p:cNvCxnSpPr>
            <a:stCxn id="349" idx="4"/>
            <a:endCxn id="359" idx="1"/>
          </p:cNvCxnSpPr>
          <p:nvPr/>
        </p:nvCxnSpPr>
        <p:spPr>
          <a:xfrm>
            <a:off x="4960440" y="1447560"/>
            <a:ext cx="678600" cy="648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6" name=""/>
          <p:cNvCxnSpPr>
            <a:stCxn id="343" idx="4"/>
            <a:endCxn id="359" idx="1"/>
          </p:cNvCxnSpPr>
          <p:nvPr/>
        </p:nvCxnSpPr>
        <p:spPr>
          <a:xfrm flipV="1">
            <a:off x="4960440" y="2094840"/>
            <a:ext cx="678600" cy="811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7" name=""/>
          <p:cNvCxnSpPr>
            <a:stCxn id="346" idx="2"/>
            <a:endCxn id="359" idx="3"/>
          </p:cNvCxnSpPr>
          <p:nvPr/>
        </p:nvCxnSpPr>
        <p:spPr>
          <a:xfrm flipH="1" flipV="1">
            <a:off x="5790960" y="2094840"/>
            <a:ext cx="659520" cy="811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8" name=""/>
          <p:cNvCxnSpPr>
            <a:stCxn id="352" idx="2"/>
            <a:endCxn id="359" idx="3"/>
          </p:cNvCxnSpPr>
          <p:nvPr/>
        </p:nvCxnSpPr>
        <p:spPr>
          <a:xfrm flipH="1">
            <a:off x="5790960" y="1447560"/>
            <a:ext cx="659520" cy="648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43" idx="4"/>
            <a:endCxn id="360" idx="1"/>
          </p:cNvCxnSpPr>
          <p:nvPr/>
        </p:nvCxnSpPr>
        <p:spPr>
          <a:xfrm flipV="1">
            <a:off x="4960440" y="2400120"/>
            <a:ext cx="678600" cy="5068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49" idx="4"/>
            <a:endCxn id="360" idx="1"/>
          </p:cNvCxnSpPr>
          <p:nvPr/>
        </p:nvCxnSpPr>
        <p:spPr>
          <a:xfrm>
            <a:off x="4960440" y="1447920"/>
            <a:ext cx="678600" cy="9532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52" idx="2"/>
            <a:endCxn id="360" idx="3"/>
          </p:cNvCxnSpPr>
          <p:nvPr/>
        </p:nvCxnSpPr>
        <p:spPr>
          <a:xfrm flipH="1">
            <a:off x="5790960" y="1447920"/>
            <a:ext cx="659520" cy="9532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2" name=""/>
          <p:cNvCxnSpPr>
            <a:stCxn id="346" idx="2"/>
            <a:endCxn id="360" idx="3"/>
          </p:cNvCxnSpPr>
          <p:nvPr/>
        </p:nvCxnSpPr>
        <p:spPr>
          <a:xfrm flipH="1" flipV="1">
            <a:off x="5790960" y="2400120"/>
            <a:ext cx="659520" cy="5068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73" name=""/>
          <p:cNvSpPr/>
          <p:nvPr/>
        </p:nvSpPr>
        <p:spPr>
          <a:xfrm>
            <a:off x="1447920" y="4022640"/>
            <a:ext cx="152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47920" y="4327560"/>
            <a:ext cx="152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47920" y="4632480"/>
            <a:ext cx="152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"/>
          <p:cNvCxnSpPr>
            <a:stCxn id="331" idx="4"/>
            <a:endCxn id="373" idx="1"/>
          </p:cNvCxnSpPr>
          <p:nvPr/>
        </p:nvCxnSpPr>
        <p:spPr>
          <a:xfrm>
            <a:off x="720720" y="3792240"/>
            <a:ext cx="727560" cy="345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31" idx="4"/>
            <a:endCxn id="374" idx="1"/>
          </p:cNvCxnSpPr>
          <p:nvPr/>
        </p:nvCxnSpPr>
        <p:spPr>
          <a:xfrm>
            <a:off x="720720" y="3792240"/>
            <a:ext cx="727560" cy="649800"/>
          </a:xfrm>
          <a:prstGeom prst="straightConnector1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378" name=""/>
          <p:cNvCxnSpPr>
            <a:stCxn id="331" idx="4"/>
            <a:endCxn id="375" idx="1"/>
          </p:cNvCxnSpPr>
          <p:nvPr/>
        </p:nvCxnSpPr>
        <p:spPr>
          <a:xfrm>
            <a:off x="720720" y="3792600"/>
            <a:ext cx="727560" cy="95472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34" idx="4"/>
            <a:endCxn id="373" idx="1"/>
          </p:cNvCxnSpPr>
          <p:nvPr/>
        </p:nvCxnSpPr>
        <p:spPr>
          <a:xfrm flipV="1">
            <a:off x="720720" y="4136400"/>
            <a:ext cx="727560" cy="1181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40" idx="2"/>
            <a:endCxn id="373" idx="3"/>
          </p:cNvCxnSpPr>
          <p:nvPr/>
        </p:nvCxnSpPr>
        <p:spPr>
          <a:xfrm flipH="1" flipV="1">
            <a:off x="1599840" y="4136400"/>
            <a:ext cx="659520" cy="1181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37" idx="2"/>
            <a:endCxn id="373" idx="3"/>
          </p:cNvCxnSpPr>
          <p:nvPr/>
        </p:nvCxnSpPr>
        <p:spPr>
          <a:xfrm flipH="1">
            <a:off x="1599840" y="3793680"/>
            <a:ext cx="659520" cy="343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82" name=""/>
          <p:cNvCxnSpPr>
            <a:stCxn id="340" idx="2"/>
            <a:endCxn id="374" idx="3"/>
          </p:cNvCxnSpPr>
          <p:nvPr/>
        </p:nvCxnSpPr>
        <p:spPr>
          <a:xfrm flipH="1" flipV="1">
            <a:off x="1599840" y="4440960"/>
            <a:ext cx="659520" cy="877320"/>
          </a:xfrm>
          <a:prstGeom prst="straightConnector1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383" name=""/>
          <p:cNvCxnSpPr>
            <a:stCxn id="337" idx="2"/>
            <a:endCxn id="374" idx="3"/>
          </p:cNvCxnSpPr>
          <p:nvPr/>
        </p:nvCxnSpPr>
        <p:spPr>
          <a:xfrm flipH="1">
            <a:off x="1599840" y="3793680"/>
            <a:ext cx="659520" cy="648360"/>
          </a:xfrm>
          <a:prstGeom prst="straightConnector1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34" idx="4"/>
            <a:endCxn id="374" idx="1"/>
          </p:cNvCxnSpPr>
          <p:nvPr/>
        </p:nvCxnSpPr>
        <p:spPr>
          <a:xfrm flipV="1">
            <a:off x="720720" y="4440960"/>
            <a:ext cx="727560" cy="877320"/>
          </a:xfrm>
          <a:prstGeom prst="straightConnector1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34" idx="4"/>
            <a:endCxn id="375" idx="1"/>
          </p:cNvCxnSpPr>
          <p:nvPr/>
        </p:nvCxnSpPr>
        <p:spPr>
          <a:xfrm flipV="1">
            <a:off x="720720" y="4746240"/>
            <a:ext cx="727560" cy="57240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stCxn id="340" idx="2"/>
            <a:endCxn id="375" idx="3"/>
          </p:cNvCxnSpPr>
          <p:nvPr/>
        </p:nvCxnSpPr>
        <p:spPr>
          <a:xfrm flipH="1" flipV="1">
            <a:off x="1599840" y="4746240"/>
            <a:ext cx="659520" cy="57240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87" name=""/>
          <p:cNvCxnSpPr>
            <a:stCxn id="337" idx="2"/>
            <a:endCxn id="375" idx="3"/>
          </p:cNvCxnSpPr>
          <p:nvPr/>
        </p:nvCxnSpPr>
        <p:spPr>
          <a:xfrm flipH="1">
            <a:off x="1599840" y="3794040"/>
            <a:ext cx="659520" cy="953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grpSp>
        <p:nvGrpSpPr>
          <p:cNvPr id="388" name=""/>
          <p:cNvGrpSpPr/>
          <p:nvPr/>
        </p:nvGrpSpPr>
        <p:grpSpPr>
          <a:xfrm>
            <a:off x="4788000" y="3534840"/>
            <a:ext cx="329040" cy="349920"/>
            <a:chOff x="4788000" y="3534840"/>
            <a:chExt cx="329040" cy="349920"/>
          </a:xfrm>
        </p:grpSpPr>
        <p:sp>
          <p:nvSpPr>
            <p:cNvPr id="389" name=""/>
            <p:cNvSpPr/>
            <p:nvPr/>
          </p:nvSpPr>
          <p:spPr>
            <a:xfrm rot="13175400">
              <a:off x="4828680" y="358848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49200" y="378036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788000" y="5060160"/>
            <a:ext cx="329040" cy="349920"/>
            <a:chOff x="4788000" y="5060160"/>
            <a:chExt cx="329040" cy="349920"/>
          </a:xfrm>
        </p:grpSpPr>
        <p:sp>
          <p:nvSpPr>
            <p:cNvPr id="392" name=""/>
            <p:cNvSpPr/>
            <p:nvPr/>
          </p:nvSpPr>
          <p:spPr>
            <a:xfrm rot="13175400">
              <a:off x="4828680" y="511380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849200" y="530568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388200" y="3536280"/>
            <a:ext cx="329040" cy="349920"/>
            <a:chOff x="6388200" y="3536280"/>
            <a:chExt cx="329040" cy="349920"/>
          </a:xfrm>
        </p:grpSpPr>
        <p:sp>
          <p:nvSpPr>
            <p:cNvPr id="395" name=""/>
            <p:cNvSpPr/>
            <p:nvPr/>
          </p:nvSpPr>
          <p:spPr>
            <a:xfrm rot="13175400">
              <a:off x="6428880" y="358992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449400" y="378180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388200" y="5060160"/>
            <a:ext cx="329040" cy="349920"/>
            <a:chOff x="6388200" y="5060160"/>
            <a:chExt cx="329040" cy="349920"/>
          </a:xfrm>
        </p:grpSpPr>
        <p:sp>
          <p:nvSpPr>
            <p:cNvPr id="398" name=""/>
            <p:cNvSpPr/>
            <p:nvPr/>
          </p:nvSpPr>
          <p:spPr>
            <a:xfrm rot="13175400">
              <a:off x="6428880" y="511380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449400" y="530568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638680" y="4114800"/>
            <a:ext cx="15264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638680" y="4419720"/>
            <a:ext cx="15264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38680" y="4724280"/>
            <a:ext cx="15264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>
            <a:stCxn id="390" idx="4"/>
            <a:endCxn id="400" idx="1"/>
          </p:cNvCxnSpPr>
          <p:nvPr/>
        </p:nvCxnSpPr>
        <p:spPr>
          <a:xfrm>
            <a:off x="4911480" y="3884400"/>
            <a:ext cx="727560" cy="345240"/>
          </a:xfrm>
          <a:prstGeom prst="straightConnector1">
            <a:avLst/>
          </a:prstGeom>
          <a:ln w="9360">
            <a:solidFill>
              <a:srgbClr val="ff0000"/>
            </a:solidFill>
            <a:prstDash val="lgDash"/>
            <a:miter/>
            <a:tailEnd len="med" type="triangle" w="med"/>
          </a:ln>
        </p:spPr>
      </p:cxnSp>
      <p:cxnSp>
        <p:nvCxnSpPr>
          <p:cNvPr id="404" name=""/>
          <p:cNvCxnSpPr>
            <a:stCxn id="390" idx="4"/>
            <a:endCxn id="401" idx="1"/>
          </p:cNvCxnSpPr>
          <p:nvPr/>
        </p:nvCxnSpPr>
        <p:spPr>
          <a:xfrm>
            <a:off x="4911480" y="3884400"/>
            <a:ext cx="727560" cy="649800"/>
          </a:xfrm>
          <a:prstGeom prst="straightConnector1">
            <a:avLst/>
          </a:prstGeom>
          <a:ln w="9360">
            <a:solidFill>
              <a:srgbClr val="00ff00"/>
            </a:solidFill>
            <a:prstDash val="lgDash"/>
            <a:miter/>
            <a:tailEnd len="med" type="triangle" w="med"/>
          </a:ln>
        </p:spPr>
      </p:cxnSp>
      <p:cxnSp>
        <p:nvCxnSpPr>
          <p:cNvPr id="405" name=""/>
          <p:cNvCxnSpPr>
            <a:stCxn id="390" idx="4"/>
            <a:endCxn id="402" idx="1"/>
          </p:cNvCxnSpPr>
          <p:nvPr/>
        </p:nvCxnSpPr>
        <p:spPr>
          <a:xfrm>
            <a:off x="4911480" y="3884760"/>
            <a:ext cx="727560" cy="954720"/>
          </a:xfrm>
          <a:prstGeom prst="straightConnector1">
            <a:avLst/>
          </a:prstGeom>
          <a:ln w="9360">
            <a:solidFill>
              <a:srgbClr val="ff6600"/>
            </a:solidFill>
            <a:prstDash val="lgDash"/>
            <a:miter/>
            <a:tailEnd len="med" type="triangle" w="med"/>
          </a:ln>
        </p:spPr>
      </p:cxnSp>
      <p:cxnSp>
        <p:nvCxnSpPr>
          <p:cNvPr id="406" name=""/>
          <p:cNvCxnSpPr>
            <a:stCxn id="393" idx="4"/>
            <a:endCxn id="400" idx="1"/>
          </p:cNvCxnSpPr>
          <p:nvPr/>
        </p:nvCxnSpPr>
        <p:spPr>
          <a:xfrm flipV="1">
            <a:off x="4911480" y="4228920"/>
            <a:ext cx="727560" cy="1181520"/>
          </a:xfrm>
          <a:prstGeom prst="straightConnector1">
            <a:avLst/>
          </a:prstGeom>
          <a:ln w="9360">
            <a:solidFill>
              <a:srgbClr val="ff0000"/>
            </a:solidFill>
            <a:prstDash val="lgDash"/>
            <a:miter/>
            <a:tailEnd len="med" type="triangle" w="med"/>
          </a:ln>
        </p:spPr>
      </p:cxnSp>
      <p:cxnSp>
        <p:nvCxnSpPr>
          <p:cNvPr id="407" name=""/>
          <p:cNvCxnSpPr>
            <a:stCxn id="399" idx="2"/>
            <a:endCxn id="400" idx="3"/>
          </p:cNvCxnSpPr>
          <p:nvPr/>
        </p:nvCxnSpPr>
        <p:spPr>
          <a:xfrm flipH="1" flipV="1">
            <a:off x="5790960" y="4228920"/>
            <a:ext cx="659520" cy="1181520"/>
          </a:xfrm>
          <a:prstGeom prst="straightConnector1">
            <a:avLst/>
          </a:prstGeom>
          <a:ln w="9360">
            <a:solidFill>
              <a:srgbClr val="ff0000"/>
            </a:solidFill>
            <a:prstDash val="lgDash"/>
            <a:miter/>
            <a:tailEnd len="med" type="triangle" w="med"/>
          </a:ln>
        </p:spPr>
      </p:cxnSp>
      <p:cxnSp>
        <p:nvCxnSpPr>
          <p:cNvPr id="408" name=""/>
          <p:cNvCxnSpPr>
            <a:stCxn id="396" idx="2"/>
            <a:endCxn id="400" idx="3"/>
          </p:cNvCxnSpPr>
          <p:nvPr/>
        </p:nvCxnSpPr>
        <p:spPr>
          <a:xfrm flipH="1">
            <a:off x="5790960" y="3885840"/>
            <a:ext cx="659520" cy="343800"/>
          </a:xfrm>
          <a:prstGeom prst="straightConnector1">
            <a:avLst/>
          </a:prstGeom>
          <a:ln w="9360">
            <a:solidFill>
              <a:srgbClr val="ff0000"/>
            </a:solidFill>
            <a:prstDash val="lgDash"/>
            <a:miter/>
            <a:tailEnd len="med" type="triangle" w="med"/>
          </a:ln>
        </p:spPr>
      </p:cxnSp>
      <p:cxnSp>
        <p:nvCxnSpPr>
          <p:cNvPr id="409" name=""/>
          <p:cNvCxnSpPr>
            <a:stCxn id="399" idx="2"/>
            <a:endCxn id="401" idx="3"/>
          </p:cNvCxnSpPr>
          <p:nvPr/>
        </p:nvCxnSpPr>
        <p:spPr>
          <a:xfrm flipH="1" flipV="1">
            <a:off x="5790960" y="4533480"/>
            <a:ext cx="659520" cy="876960"/>
          </a:xfrm>
          <a:prstGeom prst="straightConnector1">
            <a:avLst/>
          </a:prstGeom>
          <a:ln w="9360">
            <a:solidFill>
              <a:srgbClr val="00ff00"/>
            </a:solidFill>
            <a:prstDash val="lgDash"/>
            <a:miter/>
            <a:tailEnd len="med" type="triangle" w="med"/>
          </a:ln>
        </p:spPr>
      </p:cxnSp>
      <p:cxnSp>
        <p:nvCxnSpPr>
          <p:cNvPr id="410" name=""/>
          <p:cNvCxnSpPr>
            <a:stCxn id="396" idx="2"/>
            <a:endCxn id="401" idx="3"/>
          </p:cNvCxnSpPr>
          <p:nvPr/>
        </p:nvCxnSpPr>
        <p:spPr>
          <a:xfrm flipH="1">
            <a:off x="5790960" y="3885840"/>
            <a:ext cx="659520" cy="648360"/>
          </a:xfrm>
          <a:prstGeom prst="straightConnector1">
            <a:avLst/>
          </a:prstGeom>
          <a:ln w="9360">
            <a:solidFill>
              <a:srgbClr val="00ff00"/>
            </a:solidFill>
            <a:prstDash val="lgDash"/>
            <a:miter/>
            <a:tailEnd len="med" type="triangle" w="med"/>
          </a:ln>
        </p:spPr>
      </p:cxnSp>
      <p:cxnSp>
        <p:nvCxnSpPr>
          <p:cNvPr id="411" name=""/>
          <p:cNvCxnSpPr>
            <a:stCxn id="393" idx="4"/>
            <a:endCxn id="401" idx="1"/>
          </p:cNvCxnSpPr>
          <p:nvPr/>
        </p:nvCxnSpPr>
        <p:spPr>
          <a:xfrm flipV="1">
            <a:off x="4911480" y="4533480"/>
            <a:ext cx="727560" cy="876960"/>
          </a:xfrm>
          <a:prstGeom prst="straightConnector1">
            <a:avLst/>
          </a:prstGeom>
          <a:ln w="9360">
            <a:solidFill>
              <a:srgbClr val="00ff00"/>
            </a:solidFill>
            <a:prstDash val="lgDash"/>
            <a:miter/>
            <a:tailEnd len="med" type="triangle" w="med"/>
          </a:ln>
        </p:spPr>
      </p:cxnSp>
      <p:cxnSp>
        <p:nvCxnSpPr>
          <p:cNvPr id="412" name=""/>
          <p:cNvCxnSpPr>
            <a:stCxn id="393" idx="4"/>
            <a:endCxn id="402" idx="1"/>
          </p:cNvCxnSpPr>
          <p:nvPr/>
        </p:nvCxnSpPr>
        <p:spPr>
          <a:xfrm flipV="1">
            <a:off x="4911480" y="4838040"/>
            <a:ext cx="727560" cy="572040"/>
          </a:xfrm>
          <a:prstGeom prst="straightConnector1">
            <a:avLst/>
          </a:prstGeom>
          <a:ln w="9360">
            <a:solidFill>
              <a:srgbClr val="ff6600"/>
            </a:solidFill>
            <a:prstDash val="lgDash"/>
            <a:miter/>
            <a:tailEnd len="med" type="triangle" w="med"/>
          </a:ln>
        </p:spPr>
      </p:cxnSp>
      <p:cxnSp>
        <p:nvCxnSpPr>
          <p:cNvPr id="413" name=""/>
          <p:cNvCxnSpPr>
            <a:stCxn id="399" idx="2"/>
            <a:endCxn id="402" idx="3"/>
          </p:cNvCxnSpPr>
          <p:nvPr/>
        </p:nvCxnSpPr>
        <p:spPr>
          <a:xfrm flipH="1" flipV="1">
            <a:off x="5790960" y="4838040"/>
            <a:ext cx="659520" cy="572040"/>
          </a:xfrm>
          <a:prstGeom prst="straightConnector1">
            <a:avLst/>
          </a:prstGeom>
          <a:ln w="9360">
            <a:solidFill>
              <a:srgbClr val="ff6600"/>
            </a:solidFill>
            <a:prstDash val="lgDash"/>
            <a:miter/>
            <a:tailEnd len="med" type="triangle" w="med"/>
          </a:ln>
        </p:spPr>
      </p:cxnSp>
      <p:cxnSp>
        <p:nvCxnSpPr>
          <p:cNvPr id="414" name=""/>
          <p:cNvCxnSpPr>
            <a:stCxn id="396" idx="2"/>
            <a:endCxn id="402" idx="3"/>
          </p:cNvCxnSpPr>
          <p:nvPr/>
        </p:nvCxnSpPr>
        <p:spPr>
          <a:xfrm flipH="1">
            <a:off x="5790960" y="3886200"/>
            <a:ext cx="659520" cy="953280"/>
          </a:xfrm>
          <a:prstGeom prst="straightConnector1">
            <a:avLst/>
          </a:prstGeom>
          <a:ln w="9360">
            <a:solidFill>
              <a:srgbClr val="ff6600"/>
            </a:solidFill>
            <a:prstDash val="lgDash"/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586440" y="3013200"/>
            <a:ext cx="173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data to one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704120" y="301320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data to different 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4280" y="539424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ime sli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689720" y="5486400"/>
            <a:ext cx="144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annel sli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14600" y="1219320"/>
            <a:ext cx="167652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 data log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entral proces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ive processing eas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cing at the grid s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aling with only one si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werful central processing site requi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219320"/>
            <a:ext cx="213336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maller n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ive processing possi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ata slicing at n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ultiplication of large data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ultaneous availability of sites when processing l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705720" y="3657600"/>
            <a:ext cx="1981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maller n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ive processing per cha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asy sca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hannel extraction at telescope increases data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14600" y="3718080"/>
            <a:ext cx="175248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maller n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maller data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asy sca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data mulit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lex data logistics after corre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ive correlation c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3429000"/>
            <a:ext cx="79250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419720" y="1219320"/>
            <a:ext cx="0" cy="48006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855600" y="2827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124480" y="2852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11040" y="5516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124480" y="5516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FABRIC meeting at Poznan, Po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8DA-7CF7-4AFF-B3CB-ECD847F2A76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-09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rrelator architecture for file inpu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1905120"/>
            <a:ext cx="457200" cy="38088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295280" y="1752480"/>
            <a:ext cx="457200" cy="38124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28800" y="1600200"/>
            <a:ext cx="457200" cy="38088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362320" y="1447920"/>
            <a:ext cx="457200" cy="38088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200400" y="1866960"/>
            <a:ext cx="914400" cy="30492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"/>
          <p:cNvCxnSpPr>
            <a:stCxn id="433" idx="3"/>
            <a:endCxn id="434" idx="1"/>
          </p:cNvCxnSpPr>
          <p:nvPr/>
        </p:nvCxnSpPr>
        <p:spPr>
          <a:xfrm flipH="1" rot="16200000">
            <a:off x="2799360" y="1618920"/>
            <a:ext cx="191160" cy="61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2" idx="3"/>
            <a:endCxn id="434" idx="1"/>
          </p:cNvCxnSpPr>
          <p:nvPr/>
        </p:nvCxnSpPr>
        <p:spPr>
          <a:xfrm flipH="1" rot="16200000">
            <a:off x="2608920" y="1428480"/>
            <a:ext cx="3888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431" idx="3"/>
            <a:endCxn id="434" idx="1"/>
          </p:cNvCxnSpPr>
          <p:nvPr/>
        </p:nvCxnSpPr>
        <p:spPr>
          <a:xfrm flipH="1" flipV="1" rot="5400000">
            <a:off x="2303640" y="1237680"/>
            <a:ext cx="115200" cy="1677240"/>
          </a:xfrm>
          <a:prstGeom prst="curvedConnector5">
            <a:avLst>
              <a:gd name="adj1" fmla="val -200000"/>
              <a:gd name="adj2" fmla="val 28402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0" idx="3"/>
            <a:endCxn id="434" idx="1"/>
          </p:cNvCxnSpPr>
          <p:nvPr/>
        </p:nvCxnSpPr>
        <p:spPr>
          <a:xfrm flipH="1" flipV="1" rot="5400000">
            <a:off x="1962000" y="1047240"/>
            <a:ext cx="267120" cy="2210400"/>
          </a:xfrm>
          <a:prstGeom prst="curvedConnector5">
            <a:avLst>
              <a:gd name="adj1" fmla="val -85695"/>
              <a:gd name="adj2" fmla="val 27577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9" name=""/>
          <p:cNvSpPr/>
          <p:nvPr/>
        </p:nvSpPr>
        <p:spPr>
          <a:xfrm>
            <a:off x="4648320" y="1828800"/>
            <a:ext cx="533160" cy="38088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"/>
          <p:cNvCxnSpPr>
            <a:stCxn id="434" idx="3"/>
            <a:endCxn id="439" idx="2"/>
          </p:cNvCxnSpPr>
          <p:nvPr/>
        </p:nvCxnSpPr>
        <p:spPr>
          <a:xfrm>
            <a:off x="4114800" y="2018880"/>
            <a:ext cx="5342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609480" y="2666880"/>
            <a:ext cx="46483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948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me slic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3505320"/>
            <a:ext cx="457200" cy="38088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295280" y="3352680"/>
            <a:ext cx="457200" cy="38124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828800" y="3200400"/>
            <a:ext cx="457200" cy="38088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62320" y="3048120"/>
            <a:ext cx="457200" cy="38088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467160"/>
            <a:ext cx="914400" cy="30492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8" name=""/>
          <p:cNvCxnSpPr>
            <a:stCxn id="446" idx="3"/>
            <a:endCxn id="447" idx="1"/>
          </p:cNvCxnSpPr>
          <p:nvPr/>
        </p:nvCxnSpPr>
        <p:spPr>
          <a:xfrm flipH="1" rot="16200000">
            <a:off x="2799360" y="3219120"/>
            <a:ext cx="191160" cy="61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45" idx="3"/>
            <a:endCxn id="447" idx="1"/>
          </p:cNvCxnSpPr>
          <p:nvPr/>
        </p:nvCxnSpPr>
        <p:spPr>
          <a:xfrm flipH="1" rot="16200000">
            <a:off x="2608920" y="3028680"/>
            <a:ext cx="3888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"/>
          <p:cNvCxnSpPr>
            <a:stCxn id="444" idx="3"/>
            <a:endCxn id="447" idx="1"/>
          </p:cNvCxnSpPr>
          <p:nvPr/>
        </p:nvCxnSpPr>
        <p:spPr>
          <a:xfrm flipH="1" flipV="1" rot="5400000">
            <a:off x="2303640" y="2837880"/>
            <a:ext cx="115200" cy="1677240"/>
          </a:xfrm>
          <a:prstGeom prst="curvedConnector5">
            <a:avLst>
              <a:gd name="adj1" fmla="val -200000"/>
              <a:gd name="adj2" fmla="val 28402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1" name=""/>
          <p:cNvCxnSpPr>
            <a:stCxn id="443" idx="3"/>
            <a:endCxn id="447" idx="1"/>
          </p:cNvCxnSpPr>
          <p:nvPr/>
        </p:nvCxnSpPr>
        <p:spPr>
          <a:xfrm flipH="1" flipV="1" rot="5400000">
            <a:off x="1962000" y="2647440"/>
            <a:ext cx="267120" cy="2210400"/>
          </a:xfrm>
          <a:prstGeom prst="curvedConnector5">
            <a:avLst>
              <a:gd name="adj1" fmla="val -85695"/>
              <a:gd name="adj2" fmla="val 27577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4648320" y="3429000"/>
            <a:ext cx="533160" cy="38088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47" idx="3"/>
            <a:endCxn id="452" idx="2"/>
          </p:cNvCxnSpPr>
          <p:nvPr/>
        </p:nvCxnSpPr>
        <p:spPr>
          <a:xfrm>
            <a:off x="4114800" y="3619080"/>
            <a:ext cx="5342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609480" y="4267080"/>
            <a:ext cx="46483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0948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me slic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181480"/>
            <a:ext cx="457200" cy="38124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95280" y="5029200"/>
            <a:ext cx="457200" cy="38088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828800" y="4876920"/>
            <a:ext cx="457200" cy="38088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362320" y="4724280"/>
            <a:ext cx="457200" cy="38124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200400" y="5143680"/>
            <a:ext cx="914400" cy="30456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1" name=""/>
          <p:cNvCxnSpPr>
            <a:stCxn id="459" idx="3"/>
            <a:endCxn id="460" idx="1"/>
          </p:cNvCxnSpPr>
          <p:nvPr/>
        </p:nvCxnSpPr>
        <p:spPr>
          <a:xfrm flipH="1" rot="16200000">
            <a:off x="2799360" y="4895640"/>
            <a:ext cx="191160" cy="61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8" idx="3"/>
            <a:endCxn id="460" idx="1"/>
          </p:cNvCxnSpPr>
          <p:nvPr/>
        </p:nvCxnSpPr>
        <p:spPr>
          <a:xfrm flipH="1" rot="16200000">
            <a:off x="2608920" y="4705200"/>
            <a:ext cx="3888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7" idx="3"/>
            <a:endCxn id="460" idx="1"/>
          </p:cNvCxnSpPr>
          <p:nvPr/>
        </p:nvCxnSpPr>
        <p:spPr>
          <a:xfrm flipH="1" flipV="1" rot="5400000">
            <a:off x="2304000" y="4514040"/>
            <a:ext cx="114840" cy="1677240"/>
          </a:xfrm>
          <a:prstGeom prst="curvedConnector5">
            <a:avLst>
              <a:gd name="adj1" fmla="val -200000"/>
              <a:gd name="adj2" fmla="val 28402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6" idx="3"/>
            <a:endCxn id="460" idx="1"/>
          </p:cNvCxnSpPr>
          <p:nvPr/>
        </p:nvCxnSpPr>
        <p:spPr>
          <a:xfrm flipH="1" flipV="1" rot="5400000">
            <a:off x="1962000" y="4323960"/>
            <a:ext cx="267120" cy="2210400"/>
          </a:xfrm>
          <a:prstGeom prst="curvedConnector5">
            <a:avLst>
              <a:gd name="adj1" fmla="val -85695"/>
              <a:gd name="adj2" fmla="val 27577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4648320" y="5105520"/>
            <a:ext cx="533160" cy="38088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6" name=""/>
          <p:cNvCxnSpPr>
            <a:stCxn id="460" idx="3"/>
            <a:endCxn id="465" idx="2"/>
          </p:cNvCxnSpPr>
          <p:nvPr/>
        </p:nvCxnSpPr>
        <p:spPr>
          <a:xfrm>
            <a:off x="4114800" y="5295600"/>
            <a:ext cx="5342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7" name=""/>
          <p:cNvSpPr/>
          <p:nvPr/>
        </p:nvSpPr>
        <p:spPr>
          <a:xfrm>
            <a:off x="609480" y="46483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me slic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3465360"/>
            <a:ext cx="914400" cy="30492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429000"/>
            <a:ext cx="533520" cy="38088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"/>
          <p:cNvCxnSpPr>
            <a:stCxn id="439" idx="4"/>
            <a:endCxn id="468" idx="1"/>
          </p:cNvCxnSpPr>
          <p:nvPr/>
        </p:nvCxnSpPr>
        <p:spPr>
          <a:xfrm>
            <a:off x="5181120" y="2018880"/>
            <a:ext cx="686520" cy="1599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>
            <a:stCxn id="452" idx="4"/>
            <a:endCxn id="468" idx="1"/>
          </p:cNvCxnSpPr>
          <p:nvPr/>
        </p:nvCxnSpPr>
        <p:spPr>
          <a:xfrm flipV="1">
            <a:off x="5181120" y="3617640"/>
            <a:ext cx="6865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2" name=""/>
          <p:cNvCxnSpPr>
            <a:stCxn id="465" idx="4"/>
            <a:endCxn id="468" idx="1"/>
          </p:cNvCxnSpPr>
          <p:nvPr/>
        </p:nvCxnSpPr>
        <p:spPr>
          <a:xfrm flipV="1">
            <a:off x="5181120" y="3617280"/>
            <a:ext cx="686520" cy="1678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68" idx="3"/>
            <a:endCxn id="469" idx="2"/>
          </p:cNvCxnSpPr>
          <p:nvPr/>
        </p:nvCxnSpPr>
        <p:spPr>
          <a:xfrm>
            <a:off x="6781320" y="3618000"/>
            <a:ext cx="6865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5943600" y="1101600"/>
            <a:ext cx="26589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cesses data from one 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sy scalable, because one application has all the function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exploit multiple processors using M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de reuse through OO and  C+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989680" y="4206960"/>
            <a:ext cx="253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software architecture can work for data distributions 1,2 and 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255480" y="575316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fline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FABRIC meeting at Poznan, Po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1C38-5BBC-4A26-AE1F-2C51EBA7EC7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-09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lator architecture for data stre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"/>
          <p:cNvSpPr/>
          <p:nvPr/>
        </p:nvSpPr>
        <p:spPr>
          <a:xfrm>
            <a:off x="1209600" y="1449360"/>
            <a:ext cx="25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508040" y="1449360"/>
            <a:ext cx="27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819440" y="1449360"/>
            <a:ext cx="28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109960" y="1449360"/>
            <a:ext cx="28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704520" y="166536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68320" y="167148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68320" y="195588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68320" y="224172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704520" y="249228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704520" y="191628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704520" y="220500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68320" y="249228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68320" y="277668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68320" y="306216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704520" y="331308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704520" y="273672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704520" y="302580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68320" y="332424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Verdana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68320" y="360828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Verdana"/>
              </a:rPr>
              <a:t>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68320" y="389412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Verdana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04520" y="414504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704520" y="356868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704520" y="385776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95680" y="2349360"/>
            <a:ext cx="673200" cy="25092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r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578480" y="2349360"/>
            <a:ext cx="793800" cy="250920"/>
          </a:xfrm>
          <a:prstGeom prst="flowChartMagneticDrum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ff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68320" y="418464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Verdana"/>
              </a:rPr>
              <a:t>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68320" y="446868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Verdana"/>
              </a:rPr>
              <a:t>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868320" y="475452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Verdana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704520" y="5005080"/>
            <a:ext cx="16844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704520" y="442908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704520" y="471816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397240" y="148428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92320" y="148428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782720" y="148608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77800" y="147960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85840" y="149220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4" name=""/>
          <p:cNvCxnSpPr>
            <a:stCxn id="501" idx="3"/>
            <a:endCxn id="502" idx="1"/>
          </p:cNvCxnSpPr>
          <p:nvPr/>
        </p:nvCxnSpPr>
        <p:spPr>
          <a:xfrm>
            <a:off x="4268880" y="2474640"/>
            <a:ext cx="310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5" name=""/>
          <p:cNvSpPr/>
          <p:nvPr/>
        </p:nvSpPr>
        <p:spPr>
          <a:xfrm>
            <a:off x="3591000" y="3181320"/>
            <a:ext cx="673200" cy="25092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r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573440" y="3181320"/>
            <a:ext cx="793800" cy="250920"/>
          </a:xfrm>
          <a:prstGeom prst="flowChartMagneticDrum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ff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515" idx="3"/>
            <a:endCxn id="516" idx="1"/>
          </p:cNvCxnSpPr>
          <p:nvPr/>
        </p:nvCxnSpPr>
        <p:spPr>
          <a:xfrm>
            <a:off x="4263840" y="3306240"/>
            <a:ext cx="309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8" name=""/>
          <p:cNvSpPr/>
          <p:nvPr/>
        </p:nvSpPr>
        <p:spPr>
          <a:xfrm>
            <a:off x="3579840" y="4030560"/>
            <a:ext cx="673200" cy="25092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re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62640" y="4030560"/>
            <a:ext cx="793440" cy="250920"/>
          </a:xfrm>
          <a:prstGeom prst="flowChartMagneticDrum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ff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"/>
          <p:cNvCxnSpPr>
            <a:stCxn id="518" idx="3"/>
            <a:endCxn id="519" idx="1"/>
          </p:cNvCxnSpPr>
          <p:nvPr/>
        </p:nvCxnSpPr>
        <p:spPr>
          <a:xfrm>
            <a:off x="4253040" y="4155840"/>
            <a:ext cx="310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"/>
          <p:cNvSpPr/>
          <p:nvPr/>
        </p:nvSpPr>
        <p:spPr>
          <a:xfrm>
            <a:off x="5872320" y="3174840"/>
            <a:ext cx="672840" cy="25092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re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136000" y="167652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136000" y="196056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136000" y="224640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136000" y="249696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136000" y="278136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136000" y="306720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136000" y="332892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Verdana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136000" y="361332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Verdana"/>
              </a:rPr>
              <a:t>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136000" y="389880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Verdana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136000" y="418932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Verdana"/>
              </a:rPr>
              <a:t>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136000" y="447372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Verdana"/>
              </a:rPr>
              <a:t>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136000" y="475920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Verdana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118360" y="1444680"/>
            <a:ext cx="28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5" name=""/>
          <p:cNvCxnSpPr>
            <a:stCxn id="502" idx="4"/>
            <a:endCxn id="521" idx="1"/>
          </p:cNvCxnSpPr>
          <p:nvPr/>
        </p:nvCxnSpPr>
        <p:spPr>
          <a:xfrm>
            <a:off x="5371920" y="2474640"/>
            <a:ext cx="500760" cy="826200"/>
          </a:xfrm>
          <a:prstGeom prst="curvedConnector5">
            <a:avLst>
              <a:gd name="adj1" fmla="val 49784"/>
              <a:gd name="adj2" fmla="val 50000"/>
              <a:gd name="adj3" fmla="val 497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6" name=""/>
          <p:cNvCxnSpPr>
            <a:stCxn id="516" idx="4"/>
            <a:endCxn id="521" idx="1"/>
          </p:cNvCxnSpPr>
          <p:nvPr/>
        </p:nvCxnSpPr>
        <p:spPr>
          <a:xfrm flipV="1">
            <a:off x="5366880" y="3299760"/>
            <a:ext cx="505800" cy="6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7" name=""/>
          <p:cNvCxnSpPr>
            <a:stCxn id="519" idx="4"/>
            <a:endCxn id="521" idx="1"/>
          </p:cNvCxnSpPr>
          <p:nvPr/>
        </p:nvCxnSpPr>
        <p:spPr>
          <a:xfrm flipV="1">
            <a:off x="5356080" y="3299760"/>
            <a:ext cx="516960" cy="856440"/>
          </a:xfrm>
          <a:prstGeom prst="curvedConnector5">
            <a:avLst>
              <a:gd name="adj1" fmla="val 49825"/>
              <a:gd name="adj2" fmla="val 50000"/>
              <a:gd name="adj3" fmla="val 498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8" name=""/>
          <p:cNvSpPr/>
          <p:nvPr/>
        </p:nvSpPr>
        <p:spPr>
          <a:xfrm>
            <a:off x="8032680" y="147780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489880" y="148896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032680" y="1657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032680" y="1917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032680" y="2203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032680" y="2489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032680" y="2755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032680" y="3030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032680" y="3306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032680" y="3587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032680" y="385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032680" y="414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032680" y="443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032680" y="4714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32680" y="50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394000" y="1790640"/>
            <a:ext cx="1206360" cy="61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408400" y="2039760"/>
            <a:ext cx="1193760" cy="1200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403360" y="2346480"/>
            <a:ext cx="1162080" cy="1720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553080" y="1765080"/>
            <a:ext cx="1479600" cy="153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554880" y="2052360"/>
            <a:ext cx="1473120" cy="1244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550200" y="2339640"/>
            <a:ext cx="1485720" cy="958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2394000" y="2425680"/>
            <a:ext cx="1200240" cy="184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408400" y="2878200"/>
            <a:ext cx="1199880" cy="3999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390760" y="3139920"/>
            <a:ext cx="1181160" cy="97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548400" y="2617560"/>
            <a:ext cx="147312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6537240" y="2860200"/>
            <a:ext cx="1511280" cy="444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551640" y="3153960"/>
            <a:ext cx="1492200" cy="152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2394000" y="2482560"/>
            <a:ext cx="1200240" cy="95868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2408400" y="3315960"/>
            <a:ext cx="1187280" cy="39996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403360" y="4003560"/>
            <a:ext cx="1181160" cy="13968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535800" y="3316320"/>
            <a:ext cx="1492200" cy="13320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524640" y="3311640"/>
            <a:ext cx="1504800" cy="39348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45160" y="3319560"/>
            <a:ext cx="1486080" cy="68580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2394000" y="2552400"/>
            <a:ext cx="1212840" cy="173988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2395440" y="3392640"/>
            <a:ext cx="1187640" cy="118728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397240" y="4206960"/>
            <a:ext cx="1168200" cy="66024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545160" y="3313080"/>
            <a:ext cx="1486080" cy="9777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540480" y="3314880"/>
            <a:ext cx="1498680" cy="12571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548400" y="3297240"/>
            <a:ext cx="1492200" cy="156204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834680" y="5073480"/>
            <a:ext cx="8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l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0120" y="5143680"/>
            <a:ext cx="197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 buffer with short time sl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539640" y="1676520"/>
            <a:ext cx="12960" cy="330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rot="16200000">
            <a:off x="150840" y="326952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729600" y="516240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l time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FABRIC meeting at Poznan, Po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72C5-BD7C-497E-A122-130BF2580B9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-09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uud Oerlemans</cp:lastModifiedBy>
  <dcterms:modified xsi:type="dcterms:W3CDTF">2006-09-22T10:24:55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